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C13B5-11F9-45E9-B74F-B4C4B26A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4767-4660-43F8-9494-35552524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EFFF4-E643-4182-8A39-C843A08C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60996-6130-4DE8-94A6-9576486D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7FF8-FFF6-46A8-BBC3-1A4AD147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29DE-B52F-457D-B715-DA3F39D4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4C81-542C-4B59-A830-B07BF3EA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B60B-E3F7-4151-957F-14758C95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BA2C-CC88-4846-9543-EAD4AC7E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D9C4-29B3-4D26-AE7F-70A50FCB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FC55-B3AE-47B6-8B22-15083C32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DFD8-F69F-43D6-866A-3EC784F3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3AF2-6D0D-4696-959C-55A646BF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CA0F-C870-4F8A-A843-700B3995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9853-BDA9-40F8-87E2-1E0F4279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3899-4B37-4CEB-A921-EFE79842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D3D8-D9E1-4983-A9CE-7D37377E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68483-4EB3-4B37-9DBD-65970051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3CB76-9D6B-48C6-98E2-1011FB1A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E984-8884-4142-8DD6-A5A1014E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72D9-638E-4E80-8016-195A6ABD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7DF3-BCC1-4683-BC3F-F417385F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29361-17A3-4F37-ACAB-72C3FC77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B1D4B-1CD1-4E88-95A3-BB57C85C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444F-84E2-4815-A368-524FFAB387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8473-BF6B-4B18-9EBF-31D8351612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lst.org.by/" TargetMode="External"/><Relationship Id="rId2" Type="http://schemas.openxmlformats.org/officeDocument/2006/relationships/hyperlink" Target="http://www.rlst.org.by/" TargetMode="External"/><Relationship Id="rId3" Type="http://schemas.openxmlformats.org/officeDocument/2006/relationships/hyperlink" Target="http://www.rlst.org.by/" TargetMode="External"/><Relationship Id="rId4" Type="http://schemas.openxmlformats.org/officeDocument/2006/relationships/hyperlink" Target="http://www.rlst.org.by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713800" cy="303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Библиотечно-информационное обеспечение учебного процесса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84360" y="407628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Можно разрушить университеты,  высшее образование, но, если есть хорошие библиотеки, всегда можно все восстановить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.С.Лихаче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642960"/>
            <a:ext cx="85438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формационно - поисковая система «Стандарт».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иблиографическая база нормативных документов из 60 тыс. записей о государственных стандартах Республики Беларусь, межгосударственных стандартах, общегосударственных классификаторах, технических условиях предприятий и организац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формационно – поисковая система «СтройДокумент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 База данных является полнотекстовой и содержит полный объем более 2 тыс. национальных технических нормативных правовых акт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анк данных правовой информации «КонсультантПлюс».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ключает декреты и указы Президента Республики Беларусь, законы РБ, постановления Правительства Беларусь, правовые акты министерств и ведомств, а также справочную нормативно – правовую информацию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нциклопедия Брокгауза и Эфрона.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ультимедийное электронное издание, содержащее почти 7 тыс. статей с приложением иллюстраций, карт и музы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лектронная библиотека диссертаций Российской государственной библиотек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еспубликанская НТБ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- национальный депозитарий патентных документов, нормативно-технических документов, промышленных каталогов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.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rlst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.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rg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y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Электронный каталог РНТ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ww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ntbcat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rg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y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Полнотекстовые базы данных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Д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«СтандартПлюс»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межгосударственные стандарты. 20 тыс. документ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Д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«СтройКонсультант»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нормативные документы по стандартизации и нормативно-правовые документы, регулирующие строительную деятельность на территории России. 10 тыс. документ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Д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«БиблиоСерт»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законодательные и нормативные документы по сертификации, стандартизации, метрологии, управлению качеством, экологии. Около 5 тыс. докуме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Информационный Гомель»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лектование фондов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рпоративная каталогизация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троконверсия каталогов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ние сводных отраслевых и тематических баз данных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служивание по МБА и электронная доставка докуменов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еспечение короративного доступа к зарубежным базам данны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нформационная культур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нание системы крупнейших библиотек  и организационной структуры библиотеки вуз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выки поиска в традиционных библиотечно-библиографических система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выки пользования электронными каталогами, базами данных, независимо от их размещ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риентация в основных информационных источниках по профилю специаль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нание правил оформления результатов учебной или научной рабо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1268280"/>
            <a:ext cx="8964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От центра хранения информаци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–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к информационному центру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От информационного центр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–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к центру ресурсов обучения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Основные направления деятель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мплектование фонда в соответствии с учебными планами и основными направлениями научно-исследовательской деятель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здание справочно-поискового аппарата библиоте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иблиотечное и справочно-информационное обслужива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деологическая и воспитательная раб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втоматизация библиотечно-информационных технолог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здание электронных информационных ресурс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Тематический состав фон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Object 17"/>
          <p:cNvGraphicFramePr/>
          <p:nvPr/>
        </p:nvGraphicFramePr>
        <p:xfrm>
          <a:off x="457200" y="1758960"/>
          <a:ext cx="403848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8960"/>
                    <a:ext cx="403848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24000" y="1196640"/>
            <a:ext cx="3419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65%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- технические нау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5%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- естествозна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0%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- социально-экономические нау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6%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- прочие нау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4%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- художественная литер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Видовой состав фон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35290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76%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учебная литер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2%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научная литер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9%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нормативно-технические документ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%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периодические изд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%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неопубликованные материал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0" name="Object 5"/>
          <p:cNvGraphicFramePr/>
          <p:nvPr/>
        </p:nvGraphicFramePr>
        <p:xfrm>
          <a:off x="3727440" y="1413000"/>
          <a:ext cx="539100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7440" y="1413000"/>
                    <a:ext cx="5391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аиболее важные направления в связи с 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недрением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новых технолог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лектование фонд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формационно-библиографическая деятельно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жбиблиотечный абонемент (МБА)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еспечение сохранности библиотечных фонд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5e5ff"/>
                </a:solidFill>
                <a:uFillTx/>
                <a:latin typeface="Garamond"/>
              </a:rPr>
              <a:t>«Информационное обеспечение»</a:t>
            </a:r>
            <a:br>
              <a:rPr sz="3600"/>
            </a:br>
            <a:r>
              <a:rPr b="1" lang="ru-RU" sz="3600" spc="-1" strike="noStrike" u="sng">
                <a:solidFill>
                  <a:srgbClr val="e5e5ff"/>
                </a:solidFill>
                <a:uFillTx/>
                <a:latin typeface="Garamond"/>
              </a:rPr>
              <a:t>критерии оценки соответствия статусу университе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2292120"/>
            <a:ext cx="82296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личие учебников и учебных пособий по каждой дисциплине на одного студента дневной формы обучения не менее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0,2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личие учебно-методических материалов и контрольных заданий, предусмотренных программой каждой дисциплины,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е менее одного комплект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каждого студента заочной формы обучения;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Картотека</a:t>
            </a:r>
            <a:br>
              <a:rPr sz="4400"/>
            </a:b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 книгообеспечен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федр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исциплин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тингент студент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личие основной литературы (перечень и экземплярность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личие дополнительной литературы (перечень и экземплярность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лектронный каталог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библиотеки включает почти 55 тыс. библиографических записей о книгах, поступивших   с 1991 года.  Постепено он пополняется и ретроспекивными записями наиболее востребованной части фон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лектронная картотека стате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отражает информацию о статьях из профильных научных и научно-популярных периодических изданий, выписываемых библиотекой. Хронологический охват также с 1991 года. Объем более 70 тыс. библиографических записей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лектронная полнотекстовая библиотека.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а включает в себя более 550 полнотекстовых документов и изданий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47:21Z</dcterms:created>
  <dc:creator>user</dc:creator>
  <dc:description/>
  <dc:language>en-US</dc:language>
  <cp:lastModifiedBy>Татьяна</cp:lastModifiedBy>
  <dcterms:modified xsi:type="dcterms:W3CDTF">2010-04-21T21:39:42Z</dcterms:modified>
  <cp:revision>35</cp:revision>
  <dc:subject/>
  <dc:title>Отчет о работе</dc:title>
</cp:coreProperties>
</file>