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F072E-15A3-44A0-963E-C9CCF7D32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CED98-833E-41F8-868A-5605B789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C4336-12EC-4BD2-B7CB-DCD736EB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59551-7849-4F1E-A97B-39B4F183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EBE3-5F92-4528-9FE9-3ECD4D8DA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A5F2-FA0C-42FE-B3BB-FC878600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AF22-B1AA-4733-B4A5-056C0C31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64C5-E2A2-4E27-A80C-DD9A74CDA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0098-3298-468A-85EF-4B431E740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BC08-FD5C-44C1-A215-84748E43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1FF25-2C31-4ED1-AD7F-30781FDD3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FA949-0C18-4EAB-A767-B445A6C8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06DA-5D27-42ED-9177-80ADC4623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023C-85BA-4184-84BD-AD7DDD8E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31746-854D-499A-B1FB-E9AFB1E5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30B6-07D3-459C-AC50-8FEDCDF03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70BC-BA5F-476B-80AF-90BCE7A97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EE267-9644-43FE-B646-2FF5C51A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29A14-B6C4-4FDA-8772-3B5A100D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55F80-7333-488E-BAE9-4C9D1703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C7DE4-AF47-4B59-9AC2-1474D486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08222-D627-4D01-9530-F6E3CBF8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96EDF-C126-4C65-A665-C6FD75CB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4EBB4-F9DD-47B9-ADB0-4DF8C151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E10D-8F4D-4217-9C39-BBF9AE98D64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94E8-25D4-408D-8CC8-AAE15F5A96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lst.org.by/" TargetMode="External"/><Relationship Id="rId2" Type="http://schemas.openxmlformats.org/officeDocument/2006/relationships/hyperlink" Target="http://www.rlst.org.by/" TargetMode="External"/><Relationship Id="rId3" Type="http://schemas.openxmlformats.org/officeDocument/2006/relationships/hyperlink" Target="http://www.rlst.org.by/" TargetMode="External"/><Relationship Id="rId4" Type="http://schemas.openxmlformats.org/officeDocument/2006/relationships/hyperlink" Target="http://www.rlst.org.by/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560" y="620640"/>
            <a:ext cx="8713800" cy="303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Библиотечно-информационное обеспечение учебного процесса.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84360" y="407628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«Можно разрушить университеты,  высшее образование, но, если есть хорошие библиотеки, всегда можно все восстановить…»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.С.Лихаче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-302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642960"/>
            <a:ext cx="854388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нформационно - поисковая система «Стандарт».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иблиографическая база нормативных документов из 60 тыс. записей о государственных стандартах Республики Беларусь, межгосударственных стандартах, общегосударственных классификаторах, технических условиях предприятий и организаций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Информационно – поисковая система «СтройДокумент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». База данных является полнотекстовой и содержит полный объем более 2 тыс. национальных технических нормативных правовых актов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Банк данных правовой информации «КонсультантПлюс».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ключает декреты и указы Президента Республики Беларусь, законы РБ, постановления Правительства Беларусь, правовые акты министерств и ведомств, а также справочную нормативно – правовую информацию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нциклопедия Брокгауза и Эфрона.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ультимедийное электронное издание, содержащее почти 7 тыс. статей с приложением иллюстраций, карт и музык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Электронная библиотека диссертаций Российской государственной библиотек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Республиканская НТБ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- национальный депозитарий патентных документов, нормативно-технических документов, промышленных каталогов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www</a:t>
            </a:r>
            <a:r>
              <a:rPr b="0" lang="ru-RU" sz="36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.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rlst</a:t>
            </a:r>
            <a:r>
              <a:rPr b="0" lang="ru-RU" sz="36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.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rg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by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Электронный каталог РНТБ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                              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www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rntbcat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org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y</a:t>
            </a: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Полнотекстовые базы данных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9280" y="1197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Д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«СтандартПлюс»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межгосударственные стандарты. 20 тыс. документ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Д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«СтройКонсультант»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нормативные документы по стандартизации и нормативно-правовые документы, регулирующие строительную деятельность на территории России. 10 тыс. документов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Д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«БиблиоСерт»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законодательные и нормативные документы по сертификации, стандартизации, метрологии, управлению качеством, экологии. Около 5 тыс. докуме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«Информационный Гомель»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мплектование фондов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рпоративная каталогизация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троконверсия каталогов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здание сводных отраслевых и тематических баз данных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служивание по МБА и электронная доставка докуменов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еспечение короративного доступа к зарубежным базам данны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Информационная культура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7892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нание системы крупнейших библиотек  и организационной структуры библиотеки вуз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выки поиска в традиционных библиотечно-библиографических система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выки пользования электронными каталогами, базами данных, независимо от их размещени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риентация в основных информационных источниках по профилю специаль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нание правил оформления результатов учебной или научной работ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79280" y="1268280"/>
            <a:ext cx="89647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От центра хранения информаци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     –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к информационному центру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От информационного центра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     – </a:t>
            </a: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к центру ресурсов обучения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5e5ff"/>
                </a:solidFill>
                <a:uFillTx/>
                <a:latin typeface="Garamond"/>
              </a:rPr>
              <a:t>Основные направления деятельно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омплектование фонда в соответствии с учебными планами и основными направлениями научно-исследовательской деятельност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здание справочно-поискового аппарата библиоте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иблиотечное и справочно-информационное обслужива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деологическая и воспитательная работ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втоматизация библиотечно-информационных технологий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здание электронных информационных ресурсо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Тематический состав фонд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05" name="Object 17"/>
          <p:cNvGraphicFramePr/>
          <p:nvPr/>
        </p:nvGraphicFramePr>
        <p:xfrm>
          <a:off x="457200" y="1758960"/>
          <a:ext cx="4038480" cy="42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8960"/>
                    <a:ext cx="403848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724000" y="1196640"/>
            <a:ext cx="341964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5e5ff"/>
                </a:solidFill>
                <a:latin typeface="Garamond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65%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- технические нау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5%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- естествознани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0%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- социально-экономические нау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6%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- прочие нау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4%</a:t>
            </a:r>
            <a:r>
              <a:rPr b="1" lang="ru-RU" sz="2400" spc="-1" strike="noStrike">
                <a:solidFill>
                  <a:srgbClr val="e5e5ff"/>
                </a:solidFill>
                <a:latin typeface="Garamond"/>
              </a:rPr>
              <a:t> - художественная литер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Видовой состав фонд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412640"/>
            <a:ext cx="3529080" cy="52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76%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учебная литер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2%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научная литерату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9%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нормативно-технические документ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%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периодические издания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1%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- неопубликованные материал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0" name="Object 5"/>
          <p:cNvGraphicFramePr/>
          <p:nvPr/>
        </p:nvGraphicFramePr>
        <p:xfrm>
          <a:off x="3727440" y="1413000"/>
          <a:ext cx="5391000" cy="54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7440" y="1413000"/>
                    <a:ext cx="5391000" cy="54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35676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Наиболее важные направления в связи с </a:t>
            </a: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внедрением</a:t>
            </a:r>
            <a:r>
              <a:rPr b="1" lang="ru-RU" sz="3200" spc="-1" strike="noStrike">
                <a:solidFill>
                  <a:srgbClr val="e5e5ff"/>
                </a:solidFill>
                <a:latin typeface="Garamond"/>
              </a:rPr>
              <a:t> новых технологий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мплектование фондо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формационно-библиографическая деятельност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жбиблиотечный абонемент (МБА);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еспечение сохранности библиотечных фонд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e5e5ff"/>
                </a:solidFill>
                <a:uFillTx/>
                <a:latin typeface="Garamond"/>
              </a:rPr>
              <a:t>«Информационное обеспечение»</a:t>
            </a:r>
            <a:br>
              <a:rPr sz="3600"/>
            </a:br>
            <a:r>
              <a:rPr b="1" lang="ru-RU" sz="3600" spc="-1" strike="noStrike" u="sng">
                <a:solidFill>
                  <a:srgbClr val="e5e5ff"/>
                </a:solidFill>
                <a:uFillTx/>
                <a:latin typeface="Garamond"/>
              </a:rPr>
              <a:t>критерии оценки соответствия статусу университета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95280" y="2292120"/>
            <a:ext cx="8229600" cy="43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личие учебников и учебных пособий по каждой дисциплине на одного студента дневной формы обучения не менее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0,2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личие учебно-методических материалов и контрольных заданий, предусмотренных программой каждой дисциплины,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е менее одного комплект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 каждого студента заочной формы обучения;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Картотека</a:t>
            </a:r>
            <a:br>
              <a:rPr sz="4400"/>
            </a:b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 книгообеспеченност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афедр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исциплина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онтингент студентов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личие основной литературы (перечень и экземплярность)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личие дополнительной литературы (перечень и экземплярность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лектронный каталог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библиотеки включает почти 55 тыс. библиографических записей о книгах, поступивших   с 1991 года.  Постепено он пополняется и ретроспекивными записями наиболее востребованной части фонд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лектронная картотека стате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отражает информацию о статьях из профильных научных и научно-популярных периодических изданий, выписываемых библиотекой. Хронологический охват также с 1991 года. Объем более 70 тыс. библиографических записей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Электронная полнотекстовая библиотека.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на включает в себя более 550 полнотекстовых документов и изданий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878544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47:21Z</dcterms:created>
  <dc:creator>user</dc:creator>
  <dc:description/>
  <dc:language>en-US</dc:language>
  <cp:lastModifiedBy>Татьяна</cp:lastModifiedBy>
  <dcterms:modified xsi:type="dcterms:W3CDTF">2010-04-21T21:39:42Z</dcterms:modified>
  <cp:revision>35</cp:revision>
  <dc:subject/>
  <dc:title>Отчет о работе</dc:title>
</cp:coreProperties>
</file>