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1F28F-1264-4F99-867E-B9F2E241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407B-5A99-4725-8C5E-ED414F08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6D16B-C723-469D-8A3B-D6F03106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A7E3-7C9F-4FA7-9C3B-4E8AF83F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D39F-3396-434A-8271-27950D58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78B9-6670-4492-973E-6C02BC5D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E033-E79D-4BDF-9C36-B58F7F26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D18E-529F-46FF-86E9-B804634F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D676-D1B4-4A55-BDBD-FFEA90AB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5B47-28D6-44C9-A97D-A58D1073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AE07-2711-420A-87A4-DC4A5D22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A1C7-F0BB-4B98-B807-0A81BFAA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E2F3-E7DB-4C81-B71D-00E8224F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B9D1-3ACB-4907-90B0-9D4A76A6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51F5-5F4D-4493-BD0C-9B6976DC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E8B9-2F91-4943-96D2-838D1A36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88E8-78EF-4FC5-9E3A-EDEC9CDA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6D70E-D96D-4B78-AA6D-AE8EA88B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EC7C-076E-4294-BB5B-EAE40E14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A687-0A27-4CE1-86BC-B5F5D7A3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C048-8E4C-47D7-8BB3-C7FC34D6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B9FE3-B5C7-4C4B-9C39-4D3E0A0F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ED088-8956-4512-BECD-58E41C05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5638-6251-427D-94BA-01C81D65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0F7F-F43C-4401-B54A-B26021392D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9728-5AB9-4704-BE27-3411981440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lst.org.by/" TargetMode="External"/><Relationship Id="rId2" Type="http://schemas.openxmlformats.org/officeDocument/2006/relationships/hyperlink" Target="http://www.rlst.org.by/" TargetMode="External"/><Relationship Id="rId3" Type="http://schemas.openxmlformats.org/officeDocument/2006/relationships/hyperlink" Target="http://www.rlst.org.by/" TargetMode="External"/><Relationship Id="rId4" Type="http://schemas.openxmlformats.org/officeDocument/2006/relationships/hyperlink" Target="http://www.rlst.org.by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713800" cy="303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Библиотечно-информационное обеспечение учебного процесса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84360" y="407628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Можно разрушить университеты,  высшее образование, но, если есть хорошие библиотеки, всегда можно все восстановить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.С.Лихаче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642960"/>
            <a:ext cx="85438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формационно - поисковая система «Стандарт».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иблиографическая база нормативных документов из 60 тыс. записей о государственных стандартах Республики Беларусь, межгосударственных стандартах, общегосударственных классификаторах, технических условиях предприятий и организац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формационно – поисковая система «СтройДокумент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 База данных является полнотекстовой и содержит полный объем более 2 тыс. национальных технических нормативных правовых акт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анк данных правовой информации «КонсультантПлюс».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ключает декреты и указы Президента Республики Беларусь, законы РБ, постановления Правительства Беларусь, правовые акты министерств и ведомств, а также справочную нормативно – правовую информацию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нциклопедия Брокгауза и Эфрона.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ультимедийное электронное издание, содержащее почти 7 тыс. статей с приложением иллюстраций, карт и музы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лектронная библиотека диссертаций Российской государственной библиотек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еспубликанская НТБ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- национальный депозитарий патентных документов, нормативно-технических документов, промышленных каталогов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.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rlst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.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rg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y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Электронный каталог РНТ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ww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ntbcat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rg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y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Полнотекстовые базы данных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Д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«СтандартПлюс»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межгосударственные стандарты. 20 тыс. документ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Д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«СтройКонсультант»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нормативные документы по стандартизации и нормативно-правовые документы, регулирующие строительную деятельность на территории России. 10 тыс. документ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Д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«БиблиоСерт»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законодательные и нормативные документы по сертификации, стандартизации, метрологии, управлению качеством, экологии. Около 5 тыс. докуме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Информационный Гомель»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лектование фондов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рпоративная каталогизация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троконверсия каталогов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ние сводных отраслевых и тематических баз данных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служивание по МБА и электронная доставка докуменов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еспечение короративного доступа к зарубежным базам данны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нформационная культур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нание системы крупнейших библиотек  и организационной структуры библиотеки вуз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выки поиска в традиционных библиотечно-библиографических система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выки пользования электронными каталогами, базами данных, независимо от их размещ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риентация в основных информационных источниках по профилю специаль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нание правил оформления результатов учебной или научной рабо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1268280"/>
            <a:ext cx="8964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От центра хранения информаци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–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к информационному центру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От информационного центр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–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к центру ресурсов обучения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Основные направления деятель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мплектование фонда в соответствии с учебными планами и основными направлениями научно-исследовательской деятель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здание справочно-поискового аппарата библиоте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иблиотечное и справочно-информационное обслужива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деологическая и воспитательная раб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втоматизация библиотечно-информационных технолог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здание электронных информационных ресурс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Тематический состав фон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Object 17"/>
          <p:cNvGraphicFramePr/>
          <p:nvPr/>
        </p:nvGraphicFramePr>
        <p:xfrm>
          <a:off x="457200" y="1758960"/>
          <a:ext cx="403848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8960"/>
                    <a:ext cx="403848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24000" y="1196640"/>
            <a:ext cx="3419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65%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- технические нау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5%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- естествозна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0%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- социально-экономические нау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6%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- прочие нау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4%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- художественная литер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Видовой состав фон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35290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76%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учебная литер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2%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научная литер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9%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нормативно-технические документ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%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периодические изд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%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неопубликованные материал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0" name="Object 5"/>
          <p:cNvGraphicFramePr/>
          <p:nvPr/>
        </p:nvGraphicFramePr>
        <p:xfrm>
          <a:off x="3727440" y="1413000"/>
          <a:ext cx="539100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7440" y="1413000"/>
                    <a:ext cx="5391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аиболее важные направления в связи с 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недрением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новых технолог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лектование фонд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формационно-библиографическая деятельно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жбиблиотечный абонемент (МБА)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еспечение сохранности библиотечных фонд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5e5ff"/>
                </a:solidFill>
                <a:uFillTx/>
                <a:latin typeface="Garamond"/>
              </a:rPr>
              <a:t>«Информационное обеспечение»</a:t>
            </a:r>
            <a:br>
              <a:rPr sz="3600"/>
            </a:br>
            <a:r>
              <a:rPr b="1" lang="ru-RU" sz="3600" spc="-1" strike="noStrike" u="sng">
                <a:solidFill>
                  <a:srgbClr val="e5e5ff"/>
                </a:solidFill>
                <a:uFillTx/>
                <a:latin typeface="Garamond"/>
              </a:rPr>
              <a:t>критерии оценки соответствия статусу университе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2292120"/>
            <a:ext cx="82296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личие учебников и учебных пособий по каждой дисциплине на одного студента дневной формы обучения не менее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0,2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личие учебно-методических материалов и контрольных заданий, предусмотренных программой каждой дисциплины,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е менее одного комплект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каждого студента заочной формы обучения;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Картотека</a:t>
            </a:r>
            <a:br>
              <a:rPr sz="4400"/>
            </a:b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 книгообеспечен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федр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исциплин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тингент студент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личие основной литературы (перечень и экземплярность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личие дополнительной литературы (перечень и экземплярность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лектронный каталог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библиотеки включает почти 55 тыс. библиографических записей о книгах, поступивших   с 1991 года.  Постепено он пополняется и ретроспекивными записями наиболее востребованной части фон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лектронная картотека стате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отражает информацию о статьях из профильных научных и научно-популярных периодических изданий, выписываемых библиотекой. Хронологический охват также с 1991 года. Объем более 70 тыс. библиографических записей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лектронная полнотекстовая библиотека.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а включает в себя более 550 полнотекстовых документов и изданий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47:21Z</dcterms:created>
  <dc:creator>user</dc:creator>
  <dc:description/>
  <dc:language>en-US</dc:language>
  <cp:lastModifiedBy>Татьяна</cp:lastModifiedBy>
  <dcterms:modified xsi:type="dcterms:W3CDTF">2010-04-21T21:39:42Z</dcterms:modified>
  <cp:revision>35</cp:revision>
  <dc:subject/>
  <dc:title>Отчет о работе</dc:title>
</cp:coreProperties>
</file>