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217-1A97-44ED-A9FE-0AC35B54D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D6C7-BFE6-4A21-B2FE-B34C25DF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F66-C023-472E-93D0-9E901B5A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EFF-75FC-4552-A4EB-6CAD959D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D8D8-16C3-44B8-ADFB-5E2CE2E5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9685-28CD-469A-91CA-BCE74045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092-EB6E-4766-A7A2-BA9FBDB6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3C61-48A9-46C5-B0C4-9EA312B3C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98B-F46B-46D2-9CAA-179427B1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3B17-ED88-4E89-9F93-B4261568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7955-32BD-4C5F-9346-D73984D3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1953-6658-4371-8D9C-803DEE6C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34FB-500A-4A29-95E5-E1FF207A6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УЧЕНИЕ ЭФФЕКТИВНОСТИ  ИСПОЛЬЗОВАНИЯ ДОКУМЕНТОВ ПРЕПОДАВАТЕЛЕЙ УНИВЕРСИТЕТА В БИБЛИОТЕКЕ ДонНУ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лова Н. 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Б Донецкого национального университета экономики и торгов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ни Михаила Туган-Барановск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инамика поступления изданий ДонНУЭТ в библиотеку университ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539640" y="2133720"/>
          <a:ext cx="6091200" cy="43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133720"/>
                    <a:ext cx="609120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6732720" y="3643200"/>
            <a:ext cx="503280" cy="14292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08720" y="33544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 – во экземпля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4292640"/>
            <a:ext cx="503280" cy="14292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308720" y="40100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л – во наз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Обращаемость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тносительный показатель, который отражает степень использования фонда в целом или его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564000" y="4292640"/>
            <a:ext cx="1749960" cy="1602000"/>
            <a:chOff x="3564000" y="4292640"/>
            <a:chExt cx="1749960" cy="1602000"/>
          </a:xfrm>
        </p:grpSpPr>
        <p:sp>
          <p:nvSpPr>
            <p:cNvPr id="53" name=""/>
            <p:cNvSpPr/>
            <p:nvPr/>
          </p:nvSpPr>
          <p:spPr>
            <a:xfrm>
              <a:off x="3564000" y="4521240"/>
              <a:ext cx="108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Ко</a:t>
              </a:r>
              <a:r>
                <a:rPr b="0" lang="uk-UA" sz="3200" spc="-1" strike="noStrike">
                  <a:solidFill>
                    <a:srgbClr val="000000"/>
                  </a:solidFill>
                  <a:latin typeface="Times New Roman"/>
                </a:rPr>
                <a:t> =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55800" y="4292640"/>
              <a:ext cx="695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Кв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55800" y="4825800"/>
              <a:ext cx="758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3200" spc="-1" strike="noStrike">
                  <a:solidFill>
                    <a:srgbClr val="000000"/>
                  </a:solidFill>
                  <a:latin typeface="Times New Roman"/>
                </a:rPr>
                <a:t>К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Показатели проведения мониторинга использования фондов учебной литерату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оличество фонда в назнаниях и экземпляр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книговыд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обращаемость фон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структура поступлений по годам из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орма аналитической таблицы для расчета показателя индекса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обращаем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бно-методической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50920" y="1600200"/>
          <a:ext cx="8713800" cy="4527720"/>
        </p:xfrm>
        <a:graphic>
          <a:graphicData uri="http://schemas.openxmlformats.org/drawingml/2006/table">
            <a:tbl>
              <a:tblPr/>
              <a:tblGrid>
                <a:gridCol w="2617560"/>
                <a:gridCol w="1073160"/>
                <a:gridCol w="1925640"/>
                <a:gridCol w="1370160"/>
                <a:gridCol w="172728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тный номер  методической разработки (согласно номерной расстановк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втор, название д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изд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обращений пользователей за определенный период (3 года), ра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е количество, экз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обращаем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ф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1/Кф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ф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2/Кф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ф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n/Кф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мест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Результаты анализа: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5627520"/>
                <a:gridCol w="2602080"/>
              </a:tblGrid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ый индекс обращаемости учебной литературы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ерх активный   индекс обращаем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ссивный     индекс обращаемост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,6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ий 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обращаемости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тодической литературы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намика показателей книговыдачи на абонементе учебной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406520" y="1628640"/>
          <a:ext cx="6318360" cy="42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6520" y="1628640"/>
                    <a:ext cx="6318360" cy="42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инамика  обращений  пользователей библиотеки к электронным документа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403280" y="1916280"/>
          <a:ext cx="6415200" cy="462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16280"/>
                    <a:ext cx="6415200" cy="46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ТОГИ АНАЛИЗА ЭФФЕКТИВНОСТИ  ИСПОЛЬЗОВАНИЯ ДОКУМЕНТОВ ПРЕПОДАВАТЕЛЕЙ УНИВЕРСИТЕТА В БИБЛИОТЕКЕ ДонНУЭ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ысокий уровень и позитивная динамика использования документов преподавателей универс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очетание традиционных и электронных изданий расширяют возможности работы пользователей с информацией и влияют на уровень эффективности использования документов преподавателей университ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учение эффективности использования фонда позволяет оптимизировать расходы по созданию книжного фонда и способствует качественному управлению формированием фонда библиоте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09:53:20Z</dcterms:created>
  <dc:creator>OBSLUG</dc:creator>
  <dc:description/>
  <dc:language>en-US</dc:language>
  <cp:lastModifiedBy>OBSLUG</cp:lastModifiedBy>
  <dcterms:modified xsi:type="dcterms:W3CDTF">2010-04-20T14:45:40Z</dcterms:modified>
  <cp:revision>11</cp:revision>
  <dc:subject/>
  <dc:title>Балиоз тебя приветствует</dc:title>
</cp:coreProperties>
</file>