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96C-A103-40E0-93DA-45F3CA49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F75-00BB-4100-82A8-1E2BE1C5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8CE-F836-475D-A3ED-D7445313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849-1BD6-4817-A87B-8D20604F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4AB-704E-4C6C-8383-AE58CE29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20A-9B4D-4A66-9469-48AAFFEA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057-773C-404A-9710-E0F22D14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F13-0D87-4E9F-90E2-E643726A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092-CA15-43A7-B592-599F9499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1F3-94E2-4314-8A4E-7030A84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F25-DD98-4B33-B2BE-B5D43A8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EEE-4422-49E6-8360-0C1E78E9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ED2C-AC57-40D7-9370-8D244B508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ЧЕНИЕ ЭФФЕКТИВНОСТИ  ИСПОЛЬЗОВАНИЯ ДОКУМЕНТОВ ПРЕПОДАВАТЕЛЕЙ УНИВЕРСИТЕТА В БИБЛИОТЕКЕ ДонНУ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лова Н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Б Донецкого национального университета экономики и 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и Михаила Туган-Барано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намика поступления изданий ДонНУЭТ в библиотеку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2133720"/>
          <a:ext cx="609120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60912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732720" y="3643200"/>
            <a:ext cx="503280" cy="142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3354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 – во экземпля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292640"/>
            <a:ext cx="503280" cy="14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0100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 – во наз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бращаемо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тносительный показатель, который отражает степень использования фонда в целом или его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64000" y="4292640"/>
            <a:ext cx="1749960" cy="1602000"/>
            <a:chOff x="3564000" y="4292640"/>
            <a:chExt cx="1749960" cy="1602000"/>
          </a:xfrm>
        </p:grpSpPr>
        <p:sp>
          <p:nvSpPr>
            <p:cNvPr id="53" name=""/>
            <p:cNvSpPr/>
            <p:nvPr/>
          </p:nvSpPr>
          <p:spPr>
            <a:xfrm>
              <a:off x="3564000" y="45212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Ко</a:t>
              </a:r>
              <a:r>
                <a:rPr b="0" lang="uk-UA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55800" y="4292640"/>
              <a:ext cx="695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К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5800" y="4825800"/>
              <a:ext cx="75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К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казатели проведения мониторинга использования фондов учеб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личество фонда в назнаниях и экземпля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ниговы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бращаемость фо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уктура поступлений по годам из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аналитической таблицы для расчета показателя индекс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ращаем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бно-методическ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600200"/>
          <a:ext cx="8713800" cy="4527720"/>
        </p:xfrm>
        <a:graphic>
          <a:graphicData uri="http://schemas.openxmlformats.org/drawingml/2006/table">
            <a:tbl>
              <a:tblPr/>
              <a:tblGrid>
                <a:gridCol w="2617560"/>
                <a:gridCol w="1073160"/>
                <a:gridCol w="1925640"/>
                <a:gridCol w="1370160"/>
                <a:gridCol w="17272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ный номер  методической разработки (согласно номерной расстан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, название д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из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ращений пользователей за определенный период (3 года),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, эк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обращ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1/Кф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2/Кф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n/Кф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ультаты анализ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627520"/>
                <a:gridCol w="2602080"/>
              </a:tblGrid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й индекс обращаемости учебной литерату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х активный   индекс обращ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ый     индекс обращаем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обращаемост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одической литератур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ка показателей книговыдачи на абонементе учебн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06520" y="1628640"/>
          <a:ext cx="6318360" cy="42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1628640"/>
                    <a:ext cx="631836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ка  обращений  пользователей библиотеки к электронным документ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03280" y="1916280"/>
          <a:ext cx="6415200" cy="46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16280"/>
                    <a:ext cx="64152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ОГИ АНАЛИЗА ЭФФЕКТИВНОСТИ  ИСПОЛЬЗОВАНИЯ ДОКУМЕНТОВ ПРЕПОДАВАТЕЛЕЙ УНИВЕРСИТЕТА В БИБЛИОТЕКЕ ДонНУЭ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ий уровень и позитивная динамика использования документов преподавателей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етание традиционных и электронных изданий расширяют возможности работы пользователей с информацией и влияют на уровень эффективности использования документов преподавателей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эффективности использования фонда позволяет оптимизировать расходы по созданию книжного фонда и способствует качественному управлению формированием фонда библиот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9:53:20Z</dcterms:created>
  <dc:creator>OBSLUG</dc:creator>
  <dc:description/>
  <dc:language>en-US</dc:language>
  <cp:lastModifiedBy>OBSLUG</cp:lastModifiedBy>
  <dcterms:modified xsi:type="dcterms:W3CDTF">2010-04-20T14:45:40Z</dcterms:modified>
  <cp:revision>11</cp:revision>
  <dc:subject/>
  <dc:title>Балиоз тебя приветствует</dc:title>
</cp:coreProperties>
</file>