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8.png" ContentType="image/pn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E6B7-15A3-4302-A06A-7D87180B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6090-7E40-434B-81A8-B911DCC7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2AE6-9DE2-4CFD-9BF6-BC609CDB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70C0-C865-4D2C-860A-8CB30F59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5B7-FDFA-4AEB-9A9C-C4BC0CF7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0BE7A-5E7C-4563-84D9-8AF38EFB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736A-7128-43A9-BB92-D897D37D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E452-521A-4A7B-B506-9AE240EB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9FB9-E7F4-4B4A-A1F1-88E3AE51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2562-B04F-4B16-9773-069343B00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28DC-7720-4695-9A01-D016E1BF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FD00-BFA4-4331-B600-D61EC4D0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AEADF-0289-49F3-B398-0EF1FAB0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57443-B274-4205-A101-303AB3C7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8BF4A-7ADB-4B73-8469-76E9344C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E9CC4-5CBF-4B39-916C-1A97AF201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F823B-BA4D-417D-BE03-A932DACC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5315-F2C6-4B5E-94DC-0AE45617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3103E-4C1A-482C-82DF-00B72BAA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4BE62-9F91-4A7B-B266-BD32C8A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BADA2-35D9-4B44-BCFC-EFCE92D37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7B25B-CD20-4446-8B92-95AF7A69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58F-44C2-4F09-B279-E2D1CAB3F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27C0-04CE-46D7-89D4-9120BDBB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92DD6-7DFB-47FF-BB1E-E80AB43C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F9D6E-24C1-4C61-9CB2-4E903B6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9F9C4-51DB-4028-A948-C29BDBD8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A3648-C000-4D4D-A50E-8F0A8B9C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D8803-4F16-4D12-9C72-F55C5E365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00F6A-398C-4CDD-86A2-5A9604AB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2BE2-E89C-4C14-9309-516A5888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C0444-EFA4-4D85-A22C-47281304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8492E-ADC6-4336-BA2E-C68FAB43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B818-D086-456A-8B11-0DBDC17F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C5316-377C-47AE-A246-97F8D20D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3893D-D16A-4CB8-B97F-81D89BC67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D24BA-7BF0-4070-AA58-2266DDFE7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B225F-2C42-4A1F-A930-04C8908D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489B9-C14A-44FC-9D92-F2525FA7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ABC55-086B-475C-96E2-F7202EB2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1C1F2-2A44-4093-9AA4-0E2C585B0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D62B-03E6-49DC-8E3B-26E481CCF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F46A5-AB1E-4989-880E-B22A00E0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B409A-6CFC-4757-A78A-B977066B0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3D45-BB57-4015-8813-1CBC722A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99A9E-D1F2-4DDE-BD34-C18510F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C5A1FE-22F9-4CA4-890E-14D7B4A7F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6F312-DE39-4CED-ABCE-68F3189E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B7BA7-DBD6-41D1-8DDC-5DC8D2BC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3D6F-FF56-4179-9D8C-916C2A768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212C4-E92D-4A25-B058-E3A969E6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111BD-B594-4538-BEA6-3959FF39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16F04-6158-4458-9142-FF6EAE89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963DA-B2AB-4255-9ECA-0A4BEFBE3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14445-3711-4BBA-84A0-75AD5FFC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DA83-6497-4B91-A240-61AA07CBD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2624D-19D2-4489-9F42-281642AA2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40989B-1D53-49AD-90C9-1A5D7E7A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2141A-2059-4A8B-AF26-22C5E960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C47D6-CB8B-41EF-9689-1B0788B9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5D66B-E79E-466E-87EB-0EFE19CC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5EF16-FB02-49C2-B16D-EE3E5D3F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268CA-56EE-4E52-91C9-F0FDE1FF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9F15B-A9F1-4F31-A895-D638AE2A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2023-CF6B-46F9-93F3-C1D8B195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5D9FF-CB06-40BB-81B9-49890D9E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3888-C8B9-4CE4-9220-3A2E4ECF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4630A-83B1-49F3-AF18-11A9B524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94125-497A-4E7C-B7D7-7DB9AFED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F1B34-82D5-4E3C-8F12-2822D313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4030-FD98-493A-9F1C-F9276DD0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BE2-7DC7-4356-BFF0-4BD6C28B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FCA-C594-43EE-BEBB-FF745181FE3F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BC6F-E112-4FB3-BDA2-5B8262E8BFB0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547D-9E5C-4A9A-A843-4B408240C69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E651-73B7-4949-B790-400FFA35F8E3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A259-E375-4BC8-9285-B0DF4D6908E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6407-4184-446E-B572-D99844B7D3B7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uis.unesco.org/en/topic/women-science" TargetMode="External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uis.unesco.org/en/topic/women-science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s://cedos.org.ua/uk/discrimination/chym-vidrizniaiutsia-zhinky-i-choloviky-pro-hendernu-ne-rivnist-u-vyshchii-osviti" TargetMode="External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hyperlink" Target="https://genderindetail.org.ua/season-topic/osvita-i-prosvita/koli-choloviki-zverhu-abo-sklyana-stelya-ukrainskoi-vischoi-osviti-134076.html" TargetMode="External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оугольник 1"/>
          <p:cNvSpPr/>
          <p:nvPr/>
        </p:nvSpPr>
        <p:spPr>
          <a:xfrm>
            <a:off x="611280" y="40464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ублікаційна активність чоловіків-науковців у 2015 – 2017 рр</a:t>
            </a: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P -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1619280" y="1341360"/>
          <a:ext cx="5356080" cy="5261040"/>
        </p:xfrm>
        <a:graphic>
          <a:graphicData uri="http://schemas.openxmlformats.org/drawingml/2006/table">
            <a:tbl>
              <a:tblPr/>
              <a:tblGrid>
                <a:gridCol w="4032360"/>
                <a:gridCol w="1323720"/>
              </a:tblGrid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яєв Микола Микола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ямлін Сергій Вітал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заченко Дмитро Микола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рган Микола Борис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ченко Віктор Григо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зикін Михайло Іго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раш Юрій Савел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знєцов Валерій Геннад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инкаренко В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р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н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радян Леонт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й Абрам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чкасов Олександр Борис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врилюк Володимир 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л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б'як Микола Олександр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0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куленко Ігор Олексій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калозуб Владислав Васильови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3059280" y="947880"/>
            <a:ext cx="525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іщенко Тетяна Микола</a:t>
            </a: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ї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к.т.н., доц. каф. «Інтелектуальні системи електропостачання» – лідер серед жінок університету за кількістю переглядів наукових статей в репозитарії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2" descr=""/>
          <p:cNvPicPr/>
          <p:nvPr/>
        </p:nvPicPr>
        <p:blipFill>
          <a:blip r:embed="rId2"/>
          <a:stretch/>
        </p:blipFill>
        <p:spPr>
          <a:xfrm>
            <a:off x="250920" y="14292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3" descr=""/>
          <p:cNvPicPr/>
          <p:nvPr/>
        </p:nvPicPr>
        <p:blipFill>
          <a:blip r:embed="rId3"/>
          <a:srcRect l="0" t="7559" r="0" b="0"/>
          <a:stretch/>
        </p:blipFill>
        <p:spPr>
          <a:xfrm>
            <a:off x="5940360" y="3141720"/>
            <a:ext cx="2857680" cy="35211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5"/>
          <p:cNvSpPr/>
          <p:nvPr/>
        </p:nvSpPr>
        <p:spPr>
          <a:xfrm>
            <a:off x="250920" y="4508640"/>
            <a:ext cx="5545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ценюк Лариса Володимирі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цент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аф. 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«Економіка та менеджмент» – лідер серед жінок університету за кількістю наукових статей, архівованих в репозитарії протягом 2017 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Рисунок 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449440" cy="344016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132000" y="404640"/>
            <a:ext cx="568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Колесникова Тетяна Олександрі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директор науково-технічної бібліотеки, к.н. із соціальних комунікацій, с.н.с. –  лідер серед жінок університету за показниками наукометричної    системи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  Академі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=12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Нагороджена Грамотою Верховної Ради України за заслуги перед українським народом (2017 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Рисунок 3" descr=""/>
          <p:cNvPicPr/>
          <p:nvPr/>
        </p:nvPicPr>
        <p:blipFill>
          <a:blip r:embed="rId3"/>
          <a:stretch/>
        </p:blipFill>
        <p:spPr>
          <a:xfrm>
            <a:off x="6875640" y="3322800"/>
            <a:ext cx="2057400" cy="33699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684360" y="5213520"/>
            <a:ext cx="59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Сердюк Тетяна Миколаї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.т.н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доц. каф. «Автоматика, телемеханіка та зв’язок» – лідер серед жінок університету за кількістю статей (5), індексованих в базі дани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SCOPUS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Рисунок 1" descr=""/>
          <p:cNvPicPr/>
          <p:nvPr/>
        </p:nvPicPr>
        <p:blipFill>
          <a:blip r:embed="rId2"/>
          <a:stretch/>
        </p:blipFill>
        <p:spPr>
          <a:xfrm>
            <a:off x="4510080" y="83664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291" name="TextBox 2"/>
          <p:cNvSpPr/>
          <p:nvPr/>
        </p:nvSpPr>
        <p:spPr>
          <a:xfrm>
            <a:off x="1835280" y="4941720"/>
            <a:ext cx="62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Недужа Лариса Олександрівна,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.т.н.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 доц. каф. «Будівельна механіка» – лідер серед жінок університету за кількістю статей (4), індексованих в базі даних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Web of Science</a:t>
            </a: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Прямоугольник 1"/>
          <p:cNvSpPr/>
          <p:nvPr/>
        </p:nvSpPr>
        <p:spPr>
          <a:xfrm>
            <a:off x="193680" y="1628640"/>
            <a:ext cx="89280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2"/>
              </a:rPr>
              <a:t>http://uis.unesco.org/en/topic/women-scie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cedos.org.ua/uk/discrimination/chym-vidrizniaiutsia-zhinky-i-choloviky-pro-hendernu-ne-rivnist-u-vyshchii-osvi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genderindetail.org.ua/season-topic/osvita-i-prosvita/koli-choloviki-zverhu-abo-sklyana-stelya-ukrainskoi-vischoi-osviti-13407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fineartamerica.com/featured/astrolabe-diagram-science-source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periodistaenfunciones.wordpress.com/tag/hipatia-de-alejandria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Arial"/>
              </a:rPr>
              <a:t>https://nachasi.com/2018/02/11/women-inventors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"/>
          <p:cNvSpPr/>
          <p:nvPr/>
        </p:nvSpPr>
        <p:spPr>
          <a:xfrm>
            <a:off x="1187280" y="112536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Використана інформація з сайті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TextBox 1"/>
          <p:cNvSpPr/>
          <p:nvPr/>
        </p:nvSpPr>
        <p:spPr>
          <a:xfrm>
            <a:off x="2843280" y="1341360"/>
            <a:ext cx="57610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резентацію підготува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Колесникова Т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Шитікова Т.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Матвєєва О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Юнаковська В. 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00"/>
                </a:solidFill>
                <a:latin typeface="Arial"/>
              </a:rPr>
              <a:t>Бондаренко О.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2"/>
          <p:cNvSpPr/>
          <p:nvPr/>
        </p:nvSpPr>
        <p:spPr>
          <a:xfrm>
            <a:off x="2195640" y="2565360"/>
            <a:ext cx="633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Дякуєм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     </a:t>
            </a:r>
            <a:r>
              <a:rPr b="1" i="1" lang="uk-UA" sz="7200" spc="-1" strike="noStrike">
                <a:solidFill>
                  <a:srgbClr val="008000"/>
                </a:solidFill>
                <a:latin typeface="Georgia"/>
              </a:rPr>
              <a:t>за увагу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Box 1"/>
          <p:cNvSpPr/>
          <p:nvPr/>
        </p:nvSpPr>
        <p:spPr>
          <a:xfrm>
            <a:off x="2700360" y="5373720"/>
            <a:ext cx="417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Дніп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НТБ ДНУЗ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18b71"/>
                </a:solidFill>
                <a:latin typeface="Georgi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5"/>
          <p:cNvSpPr/>
          <p:nvPr/>
        </p:nvSpPr>
        <p:spPr>
          <a:xfrm rot="19391400">
            <a:off x="-351000" y="1802880"/>
            <a:ext cx="684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318b71"/>
                </a:solidFill>
                <a:latin typeface="Ekaterina Velikaya One"/>
              </a:rPr>
              <a:t>Жінки в науц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18b71"/>
                </a:solidFill>
                <a:latin typeface="Georgia"/>
              </a:rPr>
              <a:t>в контексті світу та ДНУЗ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225360" y="189000"/>
            <a:ext cx="871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аними Інституту статистики ЮНЕС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на 2016 р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світі серед науковців – жінки становлять лише біля 28%, у Східній та Центральній Європі – 39,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країна знаходиться у зоні гендерного парітету (45% – 55%). Жінок-науковиць в нашій країні близько 4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Рисунок 3" descr=""/>
          <p:cNvPicPr/>
          <p:nvPr/>
        </p:nvPicPr>
        <p:blipFill>
          <a:blip r:embed="rId2"/>
          <a:srcRect l="1184" t="0" r="1968" b="0"/>
          <a:stretch/>
        </p:blipFill>
        <p:spPr>
          <a:xfrm>
            <a:off x="152280" y="1897200"/>
            <a:ext cx="8856720" cy="442440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"/>
          <p:cNvSpPr/>
          <p:nvPr/>
        </p:nvSpPr>
        <p:spPr>
          <a:xfrm>
            <a:off x="343080" y="6524640"/>
            <a:ext cx="8594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2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://uis.unesco.org/en/topic/women-sc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Рисунок 1" descr=""/>
          <p:cNvPicPr/>
          <p:nvPr/>
        </p:nvPicPr>
        <p:blipFill>
          <a:blip r:embed="rId2"/>
          <a:stretch/>
        </p:blipFill>
        <p:spPr>
          <a:xfrm>
            <a:off x="0" y="1484280"/>
            <a:ext cx="9286920" cy="457200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"/>
          <p:cNvSpPr/>
          <p:nvPr/>
        </p:nvSpPr>
        <p:spPr>
          <a:xfrm>
            <a:off x="179280" y="333360"/>
            <a:ext cx="878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Хоча в Україні серед усіх студентів ВНЗ І-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V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івнів акредитації жінки становлять 52,3% (дані за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2013-2014 навчальний рік), але при цьому у вишах чітко виділяються “жіночі” і “чоловічі” напрям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179280" y="6453360"/>
            <a:ext cx="8785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s://cedos.org.ua/uk/discrimination/chym-vidrizniaiutsia-zhinky-i-choloviky-pro-hendernu-ne-rivnist-u-vyshchii-osvit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Рисунок 1" descr=""/>
          <p:cNvPicPr/>
          <p:nvPr/>
        </p:nvPicPr>
        <p:blipFill>
          <a:blip r:embed="rId2"/>
          <a:stretch/>
        </p:blipFill>
        <p:spPr>
          <a:xfrm>
            <a:off x="0" y="950760"/>
            <a:ext cx="9144000" cy="495648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2" descr=""/>
          <p:cNvPicPr/>
          <p:nvPr/>
        </p:nvPicPr>
        <p:blipFill>
          <a:blip r:embed="rId3"/>
          <a:stretch/>
        </p:blipFill>
        <p:spPr>
          <a:xfrm>
            <a:off x="176040" y="6415200"/>
            <a:ext cx="8791920" cy="54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Рисунок 1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616960" cy="4870440"/>
          </a:xfrm>
          <a:prstGeom prst="rect">
            <a:avLst/>
          </a:prstGeom>
          <a:ln w="0">
            <a:noFill/>
          </a:ln>
        </p:spPr>
      </p:pic>
      <p:pic>
        <p:nvPicPr>
          <p:cNvPr id="266" name="Рисунок 3" descr=""/>
          <p:cNvPicPr/>
          <p:nvPr/>
        </p:nvPicPr>
        <p:blipFill>
          <a:blip r:embed="rId3"/>
          <a:stretch/>
        </p:blipFill>
        <p:spPr>
          <a:xfrm>
            <a:off x="684360" y="6453360"/>
            <a:ext cx="8789760" cy="542880"/>
          </a:xfrm>
          <a:prstGeom prst="rect">
            <a:avLst/>
          </a:prstGeom>
          <a:ln w="0">
            <a:noFill/>
          </a:ln>
        </p:spPr>
      </p:pic>
      <p:sp>
        <p:nvSpPr>
          <p:cNvPr id="267" name="TextBox 5"/>
          <p:cNvSpPr/>
          <p:nvPr/>
        </p:nvSpPr>
        <p:spPr>
          <a:xfrm>
            <a:off x="611280" y="5291280"/>
            <a:ext cx="8064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Частка чоловіків та жінок на спеціальностях інженерного напрямк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324000" y="404640"/>
            <a:ext cx="85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ед викладачів ВНЗ приблизно однакова кількість жінок і чоловіків, та коли мова заходить про керівні посади, число жінок різко знижується: із 1642 керівників лише 517 — жі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2" descr="https://genderindetail.org.ua/netcat_files/userfiles/tsspring17/kurna/nazva_1.png"/>
          <p:cNvPicPr/>
          <p:nvPr/>
        </p:nvPicPr>
        <p:blipFill>
          <a:blip r:embed="rId2"/>
          <a:stretch/>
        </p:blipFill>
        <p:spPr>
          <a:xfrm>
            <a:off x="2050920" y="1461960"/>
            <a:ext cx="5264280" cy="33703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2"/>
          <p:cNvSpPr/>
          <p:nvPr/>
        </p:nvSpPr>
        <p:spPr>
          <a:xfrm>
            <a:off x="71280" y="6453360"/>
            <a:ext cx="9253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Arial"/>
              </a:rPr>
              <a:t>Дані з </a:t>
            </a:r>
            <a:r>
              <a:rPr b="0" lang="pl-PL" sz="1100" spc="-1" strike="noStrike" u="sng">
                <a:solidFill>
                  <a:srgbClr val="6b9f25"/>
                </a:solidFill>
                <a:uFillTx/>
                <a:latin typeface="Arial"/>
                <a:hlinkClick r:id="rId3"/>
              </a:rPr>
              <a:t>https://genderindetail.org.ua/season-topic/osvita-i-prosvita/koli-choloviki-zverhu-abo-sklyana-stelya-ukrainskoi-vischoi-osviti-134076.htm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324000" y="490392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іть серед керівниць посади розподіляються виразно нерівномірно. Абсолютна більшість керівниць обіймає посади директорок або деканок, тоді як ректорок в Україні лише 53. Найчастіше жінки очолюють ВНЗ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I–II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івня акредитації, тобто ліцеї й коледжі, особливо педагогічного та гуманітарного профілів навчанн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Рисунок 2" descr=""/>
          <p:cNvPicPr/>
          <p:nvPr/>
        </p:nvPicPr>
        <p:blipFill>
          <a:blip r:embed="rId2"/>
          <a:stretch/>
        </p:blipFill>
        <p:spPr>
          <a:xfrm>
            <a:off x="93600" y="1268280"/>
            <a:ext cx="8953560" cy="4821480"/>
          </a:xfrm>
          <a:prstGeom prst="rect">
            <a:avLst/>
          </a:prstGeom>
          <a:ln w="0">
            <a:noFill/>
          </a:ln>
        </p:spPr>
      </p:pic>
      <p:sp>
        <p:nvSpPr>
          <p:cNvPr id="273" name="TextBox 3"/>
          <p:cNvSpPr/>
          <p:nvPr/>
        </p:nvSpPr>
        <p:spPr>
          <a:xfrm>
            <a:off x="971640" y="476280"/>
            <a:ext cx="691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блікаційна активність науковців ДНУЗ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 2015 – 2017 р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>
            <a:off x="1692360" y="5300640"/>
            <a:ext cx="93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9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5"/>
          <p:cNvSpPr/>
          <p:nvPr/>
        </p:nvSpPr>
        <p:spPr>
          <a:xfrm>
            <a:off x="2627280" y="518940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60,4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5076720" y="4724280"/>
            <a:ext cx="7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9,8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7"/>
          <p:cNvSpPr/>
          <p:nvPr/>
        </p:nvSpPr>
        <p:spPr>
          <a:xfrm>
            <a:off x="6012000" y="29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70,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Box 1"/>
          <p:cNvSpPr/>
          <p:nvPr/>
        </p:nvSpPr>
        <p:spPr>
          <a:xfrm>
            <a:off x="826920" y="333360"/>
            <a:ext cx="7490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Публікаційна активність жінок-науковців у 2015 – 2017 рр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- 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332000" y="1197000"/>
          <a:ext cx="6192720" cy="5327640"/>
        </p:xfrm>
        <a:graphic>
          <a:graphicData uri="http://schemas.openxmlformats.org/drawingml/2006/table">
            <a:tbl>
              <a:tblPr/>
              <a:tblGrid>
                <a:gridCol w="4680000"/>
                <a:gridCol w="1512720"/>
              </a:tblGrid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рценюк Лариса Володими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теренко Галина Іван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дюк Тетяна Микола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раменко (Музикіна) Світлана Іго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еленько Юлія Володими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4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уравель Ірина Леонід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Яришкіна Лариса Олександ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мелевська Неля  Пет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ркіна Тетяна Юрі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дужа Лариса Олександ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кашидзе Ірина Сергії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ласова Тетяна Іван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вець Анжела Олександрі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3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есникова Тетяна Олександ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  <a:tr h="3556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суляк Людмила В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тор</a:t>
                      </a: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Пользователь</cp:lastModifiedBy>
  <dcterms:modified xsi:type="dcterms:W3CDTF">2018-03-05T12:02:19Z</dcterms:modified>
  <cp:revision>184</cp:revision>
  <dc:subject/>
  <dc:title>Слайд 1</dc:title>
</cp:coreProperties>
</file>