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23CC-B81F-448E-9570-98B36FAD7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974E-33E6-4E95-844E-99350A1C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2BDD-7CE1-4FFA-A58B-A47221857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4561-0725-4970-BCD2-328E70C5F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F82B-75E9-407D-A2AD-9A189A025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E537-9F9B-4EDD-AEEF-A6EE176A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9DB5-54B8-4782-BC80-46EF804A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5520-EFC2-42FA-B956-9F40A558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A168-76F9-4B81-9BFD-C180E0CA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CDA3-5002-4E9A-9860-FCB95A05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1C1E-EE51-4E4B-A92F-22497110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20B7-EA4A-44E3-B8A2-58EC5459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A8A3-4E67-4DE7-9900-339A57EA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DF0D-15E3-48AA-99BE-696E7589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C07A-CE37-4FB8-9EF5-EFB2859E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D2D5-1AEF-4760-AA25-47184C68A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FCC1-7050-4378-A0E2-805FB6531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3699B-4509-4FEA-9835-537528D15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C62AF-92D2-48E9-8D1A-3637EDCD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DBFD1-6160-453F-9EC2-90A0E4E1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1DC08-70E7-47A2-A33A-44DD3160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5013C-DF43-4401-853B-CD7E865C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DA2D-0273-4931-A547-2C7AA236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095D1-9331-43F1-B63B-0B32A1A9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E0DB9-B722-485D-B42E-EC7A2F6B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8554C-AC6B-48F1-8DBB-27912668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A1272-1F81-429F-A7A1-B6634C30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43144-4083-4F43-BAB0-46491068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8EBFA-EA35-4583-89D3-DB4C73FB8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A3C2E-789B-47D2-ADD2-F599A9CF8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6E664-9FFB-43D6-961E-16DC35FD6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F348D-695E-4F8B-ABF7-742C44F1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6FFF2-BC25-446F-AB57-C6ADFF85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1281-5B92-4312-8CB4-0C830F06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F6564-CE6E-470D-A9A8-9F404E1A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34761-6201-45E2-82E1-284706C2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DA799-793D-422F-9394-55D9211E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FE8E0-1042-4479-8825-AD5D2901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981FD-80C5-45E1-B569-AD328532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E7618-81BE-4F80-B8C9-796136C7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3A283-E06D-44DA-A281-BD47F6F5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6A3ED-B926-4AED-8B58-B71716EDA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69D48-F119-40E0-AB05-629C15232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984FF-61AD-4BCC-912D-0BF70C02A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B8DB-F91A-40B6-8EA0-A7447D8C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AE656-B91E-4DB4-B823-07C14B03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AD52E-E1C8-486C-8DA1-BF1E27F0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36BF8-B171-47F1-8BDD-60040459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12044-75EB-4E34-AA31-45FABB77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45DEF-2889-4756-BB3C-AEB07616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8A129-5C5B-462F-AC00-D07DA70C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89456-1077-4AD8-968B-496A627A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E6E03-7609-4762-8B75-754B9D47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899D7-F47A-42AC-AB8E-25707A9E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B25FE-2A06-40D1-8581-243045CB3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DA65-C36D-4B18-9D8D-DBC089F5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AB05F-A658-4AD3-ADD3-E5459429F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27BA2-9B9B-4777-8F8D-35431AB7F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FF563-EA44-4E16-97FC-04DF7FF5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D21EE-BA62-4232-ACD0-A76144D4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86B15-07C9-4799-AA68-7F1A21D8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FF497-EAA3-4F28-A97D-94A74609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D3483-E7A5-4735-A507-A35BAD20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602A5-CD53-4515-BC4B-22507670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ED842-257A-4132-AAA6-90FB2AC4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2F50A-4005-4ED9-80DD-C32A7ED9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39FF-40DB-40AA-B8EB-C7845958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ED0A7-6D71-4C75-B15E-1A07FEB1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9105E-63B3-47B3-9D50-3B6C1C89C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0F777-787C-4A1B-9589-17BFCF620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690B-8FFA-45AD-BE78-587FAF0F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825A-A8A1-425B-9054-13E31A54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BCCE-37C1-42F1-8658-FEAC302A9E5B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9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DD29-943B-4659-AA43-BD6A77B1C5D3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91A4-43DC-4DF4-B070-90624EF3E806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3668-4523-42E3-B057-447591F1D048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132E-2185-4382-8AA1-C21089EDB5C8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6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5D51-59CE-496A-BA9E-F2A0676BC230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uis.unesco.org/en/topic/women-science" TargetMode="External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uis.unesco.org/en/topic/women-science" TargetMode="External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hyperlink" Target="https://cedos.org.ua/uk/discrimination/chym-vidrizniaiutsia-zhinky-i-choloviky-pro-hendernu-ne-rivnist-u-vyshchii-osviti" TargetMode="External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hyperlink" Target="https://genderindetail.org.ua/season-topic/osvita-i-prosvita/koli-choloviki-zverhu-abo-sklyana-stelya-ukrainskoi-vischoi-osviti-134076.html" TargetMode="External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Прямоугольник 1"/>
          <p:cNvSpPr/>
          <p:nvPr/>
        </p:nvSpPr>
        <p:spPr>
          <a:xfrm>
            <a:off x="611280" y="40464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ублікаційна активність чоловіків-науковців у 2015 – 2017 рр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 - 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619280" y="1341360"/>
          <a:ext cx="5356080" cy="5261040"/>
        </p:xfrm>
        <a:graphic>
          <a:graphicData uri="http://schemas.openxmlformats.org/drawingml/2006/table">
            <a:tbl>
              <a:tblPr/>
              <a:tblGrid>
                <a:gridCol w="4032360"/>
                <a:gridCol w="1323720"/>
              </a:tblGrid>
              <a:tr h="351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яєв Микола Миколай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0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ямлін Сергій Віталій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1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заченко Дмитро Миколай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0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рган Микола Борис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1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ченко Віктор Григор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1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зикін Михайло Ігор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0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раш Юрій Савелій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знєцов Валерій Геннадій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1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инкаренко В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тор 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н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0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радян Леонт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й Абрам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1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чкасов Олександр Борис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0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аврилюк Володимир 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л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1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б'як Микола Олександр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0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куленко Ігор Олексій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1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калозуб Владислав Василь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1"/>
          <p:cNvSpPr/>
          <p:nvPr/>
        </p:nvSpPr>
        <p:spPr>
          <a:xfrm>
            <a:off x="3059280" y="947880"/>
            <a:ext cx="525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іщенко Тетяна Микола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ї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.т.н., доц. каф. «Інтелектуальні системи електропостачання» – лідер серед жінок університету за кількістю переглядів наукових статей в репозитар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Рисунок 2" descr=""/>
          <p:cNvPicPr/>
          <p:nvPr/>
        </p:nvPicPr>
        <p:blipFill>
          <a:blip r:embed="rId2"/>
          <a:stretch/>
        </p:blipFill>
        <p:spPr>
          <a:xfrm>
            <a:off x="250920" y="142920"/>
            <a:ext cx="2376360" cy="316872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3" descr=""/>
          <p:cNvPicPr/>
          <p:nvPr/>
        </p:nvPicPr>
        <p:blipFill>
          <a:blip r:embed="rId3"/>
          <a:srcRect l="0" t="7559" r="0" b="0"/>
          <a:stretch/>
        </p:blipFill>
        <p:spPr>
          <a:xfrm>
            <a:off x="5940360" y="3141720"/>
            <a:ext cx="2857680" cy="3521160"/>
          </a:xfrm>
          <a:prstGeom prst="rect">
            <a:avLst/>
          </a:prstGeom>
          <a:ln w="0">
            <a:noFill/>
          </a:ln>
        </p:spPr>
      </p:pic>
      <p:sp>
        <p:nvSpPr>
          <p:cNvPr id="285" name="TextBox 5"/>
          <p:cNvSpPr/>
          <p:nvPr/>
        </p:nvSpPr>
        <p:spPr>
          <a:xfrm>
            <a:off x="250920" y="4508640"/>
            <a:ext cx="554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ценюк Лариса Володимирі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цент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ф.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«Економіка та менеджмент» – лідер серед жінок університету за кількістю наукових статей, архівованих в репозитарії протягом 2017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Рисунок 1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449440" cy="344016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132000" y="404640"/>
            <a:ext cx="568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олесникова Тетяна Олександрівна,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директор науково-технічної бібліотеки, к.н. із соціальних комунікацій, с.н.с. –  лідер серед жінок університету за показниками наукометричної    системи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Google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   Академі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=12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Нагороджена Грамотою Верховної Ради України за заслуги перед українським народом (2017 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Рисунок 3" descr=""/>
          <p:cNvPicPr/>
          <p:nvPr/>
        </p:nvPicPr>
        <p:blipFill>
          <a:blip r:embed="rId3"/>
          <a:stretch/>
        </p:blipFill>
        <p:spPr>
          <a:xfrm>
            <a:off x="6875640" y="3322800"/>
            <a:ext cx="2057400" cy="3369960"/>
          </a:xfrm>
          <a:prstGeom prst="rect">
            <a:avLst/>
          </a:prstGeom>
          <a:ln w="0">
            <a:noFill/>
          </a:ln>
        </p:spPr>
      </p:pic>
      <p:sp>
        <p:nvSpPr>
          <p:cNvPr id="289" name="TextBox 4"/>
          <p:cNvSpPr/>
          <p:nvPr/>
        </p:nvSpPr>
        <p:spPr>
          <a:xfrm>
            <a:off x="684360" y="5213520"/>
            <a:ext cx="590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ердюк Тетяна Миколаївна,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к.т.н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 доц. каф. «Автоматика, телемеханіка та зв’язок» – лідер серед жінок університету за кількістю статей (5), індексованих в базі даних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SCOPUS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Рисунок 1" descr=""/>
          <p:cNvPicPr/>
          <p:nvPr/>
        </p:nvPicPr>
        <p:blipFill>
          <a:blip r:embed="rId2"/>
          <a:stretch/>
        </p:blipFill>
        <p:spPr>
          <a:xfrm>
            <a:off x="4510080" y="83664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291" name="TextBox 2"/>
          <p:cNvSpPr/>
          <p:nvPr/>
        </p:nvSpPr>
        <p:spPr>
          <a:xfrm>
            <a:off x="1835280" y="4941720"/>
            <a:ext cx="62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едужа Лариса Олександрівна,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к.т.н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 доц. каф. «Будівельна механіка» – лідер серед жінок університету за кількістю статей (4), індексованих в базі даних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Web of Science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оугольник 1"/>
          <p:cNvSpPr/>
          <p:nvPr/>
        </p:nvSpPr>
        <p:spPr>
          <a:xfrm>
            <a:off x="193680" y="1628640"/>
            <a:ext cx="892800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 u="sng">
                <a:solidFill>
                  <a:srgbClr val="6b9f25"/>
                </a:solidFill>
                <a:uFillTx/>
                <a:latin typeface="Arial"/>
                <a:hlinkClick r:id="rId2"/>
              </a:rPr>
              <a:t>http://uis.unesco.org/en/topic/women-scie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https://cedos.org.ua/uk/discrimination/chym-vidrizniaiutsia-zhinky-i-choloviky-pro-hendernu-ne-rivnist-u-vyshchii-osvi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https://genderindetail.org.ua/season-topic/osvita-i-prosvita/koli-choloviki-zverhu-abo-sklyana-stelya-ukrainskoi-vischoi-osviti-134076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https://fineartamerica.com/featured/astrolabe-diagram-science-source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https://periodistaenfunciones.wordpress.com/tag/hipatia-de-alejandria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https://nachasi.com/2018/02/11/women-inventors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"/>
          <p:cNvSpPr/>
          <p:nvPr/>
        </p:nvSpPr>
        <p:spPr>
          <a:xfrm>
            <a:off x="1187280" y="112536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икористана інформація з сайті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Box 1"/>
          <p:cNvSpPr/>
          <p:nvPr/>
        </p:nvSpPr>
        <p:spPr>
          <a:xfrm>
            <a:off x="2843280" y="1341360"/>
            <a:ext cx="576108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резентацію підготува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Колесникова Т. 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Шитікова Т.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Матвєєва О.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Юнаковська В.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Бондаренко О. 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2"/>
          <p:cNvSpPr/>
          <p:nvPr/>
        </p:nvSpPr>
        <p:spPr>
          <a:xfrm>
            <a:off x="2195640" y="2565360"/>
            <a:ext cx="633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008000"/>
                </a:solidFill>
                <a:latin typeface="Georgia"/>
              </a:rPr>
              <a:t>Дякуєм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008000"/>
                </a:solidFill>
                <a:latin typeface="Georgia"/>
              </a:rPr>
              <a:t>     </a:t>
            </a:r>
            <a:r>
              <a:rPr b="1" i="1" lang="uk-UA" sz="7200" spc="-1" strike="noStrike">
                <a:solidFill>
                  <a:srgbClr val="008000"/>
                </a:solidFill>
                <a:latin typeface="Georgia"/>
              </a:rPr>
              <a:t>за увагу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"/>
          <p:cNvSpPr/>
          <p:nvPr/>
        </p:nvSpPr>
        <p:spPr>
          <a:xfrm>
            <a:off x="2700360" y="5373720"/>
            <a:ext cx="41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18b71"/>
                </a:solidFill>
                <a:latin typeface="Georgia"/>
              </a:rPr>
              <a:t>Дніп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18b71"/>
                </a:solidFill>
                <a:latin typeface="Georgia"/>
              </a:rPr>
              <a:t>НТБ ДНУЗ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18b71"/>
                </a:solidFill>
                <a:latin typeface="Georgia"/>
              </a:rPr>
              <a:t>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5"/>
          <p:cNvSpPr/>
          <p:nvPr/>
        </p:nvSpPr>
        <p:spPr>
          <a:xfrm rot="19391400">
            <a:off x="-351000" y="1802880"/>
            <a:ext cx="684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318b71"/>
                </a:solidFill>
                <a:latin typeface="Ekaterina Velikaya One"/>
              </a:rPr>
              <a:t>Жінки в науці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18b71"/>
                </a:solidFill>
                <a:latin typeface="Georgia"/>
              </a:rPr>
              <a:t>в контексті світу та ДНУЗ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1"/>
          <p:cNvSpPr/>
          <p:nvPr/>
        </p:nvSpPr>
        <p:spPr>
          <a:xfrm>
            <a:off x="225360" y="189000"/>
            <a:ext cx="871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даними Інституту статистики ЮНЕС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 2016 р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світі серед науковців – жінки становлять лише біля 28%, у Східній та Центральній Європі – 39,6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раїна знаходиться у зоні гендерного парітету (45% – 55%). Жінок-науковиць в нашій країні близько 46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Рисунок 3" descr=""/>
          <p:cNvPicPr/>
          <p:nvPr/>
        </p:nvPicPr>
        <p:blipFill>
          <a:blip r:embed="rId2"/>
          <a:srcRect l="1184" t="0" r="1968" b="0"/>
          <a:stretch/>
        </p:blipFill>
        <p:spPr>
          <a:xfrm>
            <a:off x="152280" y="1897200"/>
            <a:ext cx="8856720" cy="4424400"/>
          </a:xfrm>
          <a:prstGeom prst="rect">
            <a:avLst/>
          </a:prstGeom>
          <a:ln w="0">
            <a:noFill/>
          </a:ln>
        </p:spPr>
      </p:pic>
      <p:sp>
        <p:nvSpPr>
          <p:cNvPr id="259" name="TextBox 3"/>
          <p:cNvSpPr/>
          <p:nvPr/>
        </p:nvSpPr>
        <p:spPr>
          <a:xfrm>
            <a:off x="343080" y="6524640"/>
            <a:ext cx="8594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ані з </a:t>
            </a:r>
            <a:r>
              <a:rPr b="0" lang="pl-PL" sz="1200" spc="-1" strike="noStrike" u="sng">
                <a:solidFill>
                  <a:srgbClr val="6b9f25"/>
                </a:solidFill>
                <a:uFillTx/>
                <a:latin typeface="Arial"/>
                <a:hlinkClick r:id="rId3"/>
              </a:rPr>
              <a:t>http://uis.unesco.org/en/topic/women-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Рисунок 1" descr=""/>
          <p:cNvPicPr/>
          <p:nvPr/>
        </p:nvPicPr>
        <p:blipFill>
          <a:blip r:embed="rId2"/>
          <a:stretch/>
        </p:blipFill>
        <p:spPr>
          <a:xfrm>
            <a:off x="0" y="1484280"/>
            <a:ext cx="9286920" cy="4572000"/>
          </a:xfrm>
          <a:prstGeom prst="rect">
            <a:avLst/>
          </a:prstGeom>
          <a:ln w="0">
            <a:noFill/>
          </a:ln>
        </p:spPr>
      </p:pic>
      <p:sp>
        <p:nvSpPr>
          <p:cNvPr id="261" name="TextBox 2"/>
          <p:cNvSpPr/>
          <p:nvPr/>
        </p:nvSpPr>
        <p:spPr>
          <a:xfrm>
            <a:off x="179280" y="33336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Хоча в Україні серед усіх студентів ВНЗ І-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івнів акредитації жінки становлять 52,3% (дані з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013-2014 навчальний рік), але при цьому у вишах чітко виділяються “жіночі” і “чоловічі” напрям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3"/>
          <p:cNvSpPr/>
          <p:nvPr/>
        </p:nvSpPr>
        <p:spPr>
          <a:xfrm>
            <a:off x="179280" y="6453360"/>
            <a:ext cx="8785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Дані з </a:t>
            </a:r>
            <a:r>
              <a:rPr b="0" lang="pl-PL" sz="1100" spc="-1" strike="noStrike" u="sng">
                <a:solidFill>
                  <a:srgbClr val="6b9f25"/>
                </a:solidFill>
                <a:uFillTx/>
                <a:latin typeface="Arial"/>
                <a:hlinkClick r:id="rId3"/>
              </a:rPr>
              <a:t>https://cedos.org.ua/uk/discrimination/chym-vidrizniaiutsia-zhinky-i-choloviky-pro-hendernu-ne-rivnist-u-vyshchii-osvi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Рисунок 1" descr=""/>
          <p:cNvPicPr/>
          <p:nvPr/>
        </p:nvPicPr>
        <p:blipFill>
          <a:blip r:embed="rId2"/>
          <a:stretch/>
        </p:blipFill>
        <p:spPr>
          <a:xfrm>
            <a:off x="0" y="950760"/>
            <a:ext cx="9144000" cy="495648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2" descr=""/>
          <p:cNvPicPr/>
          <p:nvPr/>
        </p:nvPicPr>
        <p:blipFill>
          <a:blip r:embed="rId3"/>
          <a:stretch/>
        </p:blipFill>
        <p:spPr>
          <a:xfrm>
            <a:off x="176040" y="6415200"/>
            <a:ext cx="8791920" cy="54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Рисунок 1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8616960" cy="487044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3" descr=""/>
          <p:cNvPicPr/>
          <p:nvPr/>
        </p:nvPicPr>
        <p:blipFill>
          <a:blip r:embed="rId3"/>
          <a:stretch/>
        </p:blipFill>
        <p:spPr>
          <a:xfrm>
            <a:off x="684360" y="6453360"/>
            <a:ext cx="8789760" cy="542880"/>
          </a:xfrm>
          <a:prstGeom prst="rect">
            <a:avLst/>
          </a:prstGeom>
          <a:ln w="0">
            <a:noFill/>
          </a:ln>
        </p:spPr>
      </p:pic>
      <p:sp>
        <p:nvSpPr>
          <p:cNvPr id="267" name="TextBox 5"/>
          <p:cNvSpPr/>
          <p:nvPr/>
        </p:nvSpPr>
        <p:spPr>
          <a:xfrm>
            <a:off x="611280" y="5291280"/>
            <a:ext cx="8064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Частка чоловіків та жінок на спеціальностях інженерного напрям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1"/>
          <p:cNvSpPr/>
          <p:nvPr/>
        </p:nvSpPr>
        <p:spPr>
          <a:xfrm>
            <a:off x="324000" y="40464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ед викладачів ВНЗ приблизно однакова кількість жінок і чоловіків, та коли мова заходить про керівні посади, число жінок різко знижується: із 1642 керівників лише 517 — жін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https://genderindetail.org.ua/netcat_files/userfiles/tsspring17/kurna/nazva_1.png"/>
          <p:cNvPicPr/>
          <p:nvPr/>
        </p:nvPicPr>
        <p:blipFill>
          <a:blip r:embed="rId2"/>
          <a:stretch/>
        </p:blipFill>
        <p:spPr>
          <a:xfrm>
            <a:off x="2050920" y="1461960"/>
            <a:ext cx="5264280" cy="33703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71280" y="6453360"/>
            <a:ext cx="9253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Дані з </a:t>
            </a:r>
            <a:r>
              <a:rPr b="0" lang="pl-PL" sz="1100" spc="-1" strike="noStrike" u="sng">
                <a:solidFill>
                  <a:srgbClr val="6b9f25"/>
                </a:solidFill>
                <a:uFillTx/>
                <a:latin typeface="Arial"/>
                <a:hlinkClick r:id="rId3"/>
              </a:rPr>
              <a:t>https://genderindetail.org.ua/season-topic/osvita-i-prosvita/koli-choloviki-zverhu-abo-sklyana-stelya-ukrainskoi-vischoi-osviti-134076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3"/>
          <p:cNvSpPr/>
          <p:nvPr/>
        </p:nvSpPr>
        <p:spPr>
          <a:xfrm>
            <a:off x="324000" y="4903920"/>
            <a:ext cx="856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віть серед керівниць посади розподіляються виразно нерівномірно. Абсолютна більшість керівниць обіймає посади директорок або деканок, тоді як ректорок в Україні лише 53. Найчастіше жінки очолюють ВНЗ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–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івня акредитації, тобто ліцеї й коледжі, особливо педагогічного та гуманітарного профілів навчанн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Рисунок 2" descr=""/>
          <p:cNvPicPr/>
          <p:nvPr/>
        </p:nvPicPr>
        <p:blipFill>
          <a:blip r:embed="rId2"/>
          <a:stretch/>
        </p:blipFill>
        <p:spPr>
          <a:xfrm>
            <a:off x="93600" y="1268280"/>
            <a:ext cx="8953560" cy="4821480"/>
          </a:xfrm>
          <a:prstGeom prst="rect">
            <a:avLst/>
          </a:prstGeom>
          <a:ln w="0">
            <a:noFill/>
          </a:ln>
        </p:spPr>
      </p:pic>
      <p:sp>
        <p:nvSpPr>
          <p:cNvPr id="273" name="TextBox 3"/>
          <p:cNvSpPr/>
          <p:nvPr/>
        </p:nvSpPr>
        <p:spPr>
          <a:xfrm>
            <a:off x="971640" y="476280"/>
            <a:ext cx="691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блікаційна активність науковців ДНУЗ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 2015 – 2017 р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4"/>
          <p:cNvSpPr/>
          <p:nvPr/>
        </p:nvSpPr>
        <p:spPr>
          <a:xfrm>
            <a:off x="1692360" y="530064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9,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5"/>
          <p:cNvSpPr/>
          <p:nvPr/>
        </p:nvSpPr>
        <p:spPr>
          <a:xfrm>
            <a:off x="2627280" y="51894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60,4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6"/>
          <p:cNvSpPr/>
          <p:nvPr/>
        </p:nvSpPr>
        <p:spPr>
          <a:xfrm>
            <a:off x="5076720" y="472428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9,8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7"/>
          <p:cNvSpPr/>
          <p:nvPr/>
        </p:nvSpPr>
        <p:spPr>
          <a:xfrm>
            <a:off x="6012000" y="29973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70,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Box 1"/>
          <p:cNvSpPr/>
          <p:nvPr/>
        </p:nvSpPr>
        <p:spPr>
          <a:xfrm>
            <a:off x="826920" y="333360"/>
            <a:ext cx="74901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ублікаційна активність жінок-науковців у 2015 – 2017 рр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 - 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332000" y="1197000"/>
          <a:ext cx="6192720" cy="5327640"/>
        </p:xfrm>
        <a:graphic>
          <a:graphicData uri="http://schemas.openxmlformats.org/drawingml/2006/table">
            <a:tbl>
              <a:tblPr/>
              <a:tblGrid>
                <a:gridCol w="4680000"/>
                <a:gridCol w="1512720"/>
              </a:tblGrid>
              <a:tr h="355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ценюк Лариса Володимир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3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стеренко Галина Івані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5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рдюк Тетяна Миколаї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5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раменко (Музикіна) Світлана Ігорі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5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еленько Юлія Володимирі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4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уравель Ірина Леоніді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5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ришкіна Лариса Олександрі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5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мелевська Неля  Петр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5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аркіна Тетяна Юрії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3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дужа Лариса Олександр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5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кашидзе Ірина Сергії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5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ласова Тетяна Івані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5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вець Анжела Олександрі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3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есникова Тетяна Олександр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5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суляк Людмила В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тор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Пользователь</cp:lastModifiedBy>
  <dcterms:modified xsi:type="dcterms:W3CDTF">2018-03-05T12:02:19Z</dcterms:modified>
  <cp:revision>184</cp:revision>
  <dc:subject/>
  <dc:title>Слайд 1</dc:title>
</cp:coreProperties>
</file>