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579D-9C8E-4C93-B6C1-C75132547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FA98-1F29-470B-B9D7-0C81E8C0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0CED-0A1F-4893-89F5-9153FE2ED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0014-D0F4-4449-8A5E-62522ACFD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3FF8-6A08-4F94-A815-1BF71641A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AA71-304A-4808-9C64-F3296658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AA0C-4F60-4F64-B888-327224D9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276C-13CF-4325-8EBA-843DA7A4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2456-E310-4D37-876C-E7AF71F5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480C-0A2A-4913-B572-CAC43217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9F72-7A5D-449A-8BFE-CE5A93BA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DA98-645D-482E-9AED-9515D954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4F22-3AC3-4843-9C7E-5E3C037B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0A92-2DCA-4E36-9351-39B68214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F65C-1665-4D96-A768-E322BEB6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6D79-4E8A-4796-88DF-AD8FE2DBC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3717-3F49-4FEE-AE22-63C224402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A1F34-4803-47D0-831A-89E12626E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51015-17A5-4AE7-8E75-5B7F3E6F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58E0D-2498-44AF-A0D5-4DF35380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0A924-325E-46DE-9987-F4EA83E8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20D7A-C146-48BD-A6AF-965F9CC5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81E5-EA14-4A31-868D-AC04BB27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15539-B3C0-4918-8A02-3B4EB485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90F8C-E8CC-47B0-BD5D-BEF0A6E6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3129D-9E68-4E83-9F5E-DF775219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35028-662B-46F2-9F3D-87F037AA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D499F-FD42-4860-BF37-8CE031CD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99277-73B8-4164-B27D-54709DAC7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278D7-7A15-425F-B533-97BA9E252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0F9CD-8534-482D-9456-E7267AB6A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54242-AEF4-4E44-86FD-2B8CEAE3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2971C-46E2-45AB-834F-4810514C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30C7-85FF-413A-94FC-ED6DAE6F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3EA38-BCC5-4927-A44F-E97343B6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45707-909D-41FD-A387-F53141C3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D8BE6-D3F4-4AEE-800E-67FA8E34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9D0FC-27FC-475A-B643-36209D82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64349-7E77-42AB-A94B-22D97273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4E521-DE61-48DB-BE0F-A2CF8C0A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B4450-8C4E-43FA-8D9A-DDCFD804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A213D-9985-474A-8ECF-E51944157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A822D-7709-44AB-A54D-312F70087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FAEA4-C3B1-4277-ADEF-2C89D30FD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3A90-76BC-4A06-A734-65D68046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7F3CF-8B49-465C-BC9E-C9ADA091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DD901-4559-4B8E-8776-2238C6EE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B8C60-13FB-49B5-9A26-EA49A301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9ACBE-A16E-4C70-B2A1-B45A2A07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2A5B0-67E1-45C3-BC2C-250CF80B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E5DC3-675B-4134-AB91-18641B12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B63FA-5FC2-486C-8766-53452ED8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360D6-348F-4FE8-B881-B9607CD6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C48D9-1FF5-4526-9AA8-AC2F292B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50B9C-CA49-484C-BC4B-AF34E04B7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C977-37BF-46EA-B64C-C046B4C1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5FF8B-19E0-4C11-B3E7-A97FFA745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FDF6A-C94C-46C6-B2FC-FA0D8A5A9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EEDF7-29B6-41F0-B409-1F668DEE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67126-4FD1-46B5-80BC-9D6B43FC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230D0-304E-4F6A-8460-B9EAF6A6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BE140-D64F-4020-918C-B4404135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5659B-C2B1-415F-ACC6-F6DBDAF2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250B9-5E57-443F-8FF1-C8CFB8F4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DDC81-0BC6-4020-A936-BB57B782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81537-FF77-4AA1-B9AD-E21497C1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675D-51E1-496B-8572-9378E4AF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F4D8B-5BA6-4DE9-B527-8C41010B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48E52-66D4-4EDD-A208-81B4BD9C7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83E8D-2BEC-42F6-8A39-05D961C1B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BE4E-F25F-49A3-B74D-A0180BE7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0D1E-130B-48CC-8624-78D6167D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8651-DAB7-4EB6-B8A8-3F12C11D3799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9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DBEC-88BE-4721-880D-032786417060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6ADC-B770-473A-9192-2CD2A76864EF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7023-BB02-43D1-A13E-7135217700E8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E761-DD0E-4664-8303-552CB8BD60A5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6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DA8B-8537-4C81-8CCA-DD2311FB19C7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uis.unesco.org/en/topic/women-science" TargetMode="External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uis.unesco.org/en/topic/women-science" TargetMode="External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hyperlink" Target="https://cedos.org.ua/uk/discrimination/chym-vidrizniaiutsia-zhinky-i-choloviky-pro-hendernu-ne-rivnist-u-vyshchii-osviti" TargetMode="External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hyperlink" Target="https://genderindetail.org.ua/season-topic/osvita-i-prosvita/koli-choloviki-zverhu-abo-sklyana-stelya-ukrainskoi-vischoi-osviti-134076.html" TargetMode="External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Прямоугольник 1"/>
          <p:cNvSpPr/>
          <p:nvPr/>
        </p:nvSpPr>
        <p:spPr>
          <a:xfrm>
            <a:off x="611280" y="40464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ублікаційна активність чоловіків-науковців у 2015 – 2017 рр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 - 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619280" y="1341360"/>
          <a:ext cx="5356080" cy="5261040"/>
        </p:xfrm>
        <a:graphic>
          <a:graphicData uri="http://schemas.openxmlformats.org/drawingml/2006/table">
            <a:tbl>
              <a:tblPr/>
              <a:tblGrid>
                <a:gridCol w="4032360"/>
                <a:gridCol w="1323720"/>
              </a:tblGrid>
              <a:tr h="351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яєв Микола Миколай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0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ямлін Сергій Віталій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1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заченко Дмитро Миколай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0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рган Микола Борис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1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ченко Віктор Григор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1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зикін Михайло Ігор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0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раш Юрій Савелій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знєцов Валерій Геннадій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1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инкаренко В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тор 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н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0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радян Леонт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й Абрам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1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чкасов Олександр Борис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0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аврилюк Володимир 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л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1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б'як Микола Олександр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0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куленко Ігор Олексій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1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калозуб Владислав Василь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1"/>
          <p:cNvSpPr/>
          <p:nvPr/>
        </p:nvSpPr>
        <p:spPr>
          <a:xfrm>
            <a:off x="3059280" y="947880"/>
            <a:ext cx="525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іщенко Тетяна Микола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ї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.т.н., доц. каф. «Інтелектуальні системи електропостачання» – лідер серед жінок університету за кількістю переглядів наукових статей в репозитар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Рисунок 2" descr=""/>
          <p:cNvPicPr/>
          <p:nvPr/>
        </p:nvPicPr>
        <p:blipFill>
          <a:blip r:embed="rId2"/>
          <a:stretch/>
        </p:blipFill>
        <p:spPr>
          <a:xfrm>
            <a:off x="250920" y="142920"/>
            <a:ext cx="2376360" cy="316872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3" descr=""/>
          <p:cNvPicPr/>
          <p:nvPr/>
        </p:nvPicPr>
        <p:blipFill>
          <a:blip r:embed="rId3"/>
          <a:srcRect l="0" t="7559" r="0" b="0"/>
          <a:stretch/>
        </p:blipFill>
        <p:spPr>
          <a:xfrm>
            <a:off x="5940360" y="3141720"/>
            <a:ext cx="2857680" cy="3521160"/>
          </a:xfrm>
          <a:prstGeom prst="rect">
            <a:avLst/>
          </a:prstGeom>
          <a:ln w="0">
            <a:noFill/>
          </a:ln>
        </p:spPr>
      </p:pic>
      <p:sp>
        <p:nvSpPr>
          <p:cNvPr id="285" name="TextBox 5"/>
          <p:cNvSpPr/>
          <p:nvPr/>
        </p:nvSpPr>
        <p:spPr>
          <a:xfrm>
            <a:off x="250920" y="4508640"/>
            <a:ext cx="554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ценюк Лариса Володимирі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цент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ф.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«Економіка та менеджмент» – лідер серед жінок університету за кількістю наукових статей, архівованих в репозитарії протягом 2017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Рисунок 1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449440" cy="344016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132000" y="404640"/>
            <a:ext cx="568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олесникова Тетяна Олександрівна,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директор науково-технічної бібліотеки, к.н. із соціальних комунікацій, с.н.с. –  лідер серед жінок університету за показниками наукометричної    системи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Google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   Академі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=12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Нагороджена Грамотою Верховної Ради України за заслуги перед українським народом (2017 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Рисунок 3" descr=""/>
          <p:cNvPicPr/>
          <p:nvPr/>
        </p:nvPicPr>
        <p:blipFill>
          <a:blip r:embed="rId3"/>
          <a:stretch/>
        </p:blipFill>
        <p:spPr>
          <a:xfrm>
            <a:off x="6875640" y="3322800"/>
            <a:ext cx="2057400" cy="3369960"/>
          </a:xfrm>
          <a:prstGeom prst="rect">
            <a:avLst/>
          </a:prstGeom>
          <a:ln w="0">
            <a:noFill/>
          </a:ln>
        </p:spPr>
      </p:pic>
      <p:sp>
        <p:nvSpPr>
          <p:cNvPr id="289" name="TextBox 4"/>
          <p:cNvSpPr/>
          <p:nvPr/>
        </p:nvSpPr>
        <p:spPr>
          <a:xfrm>
            <a:off x="684360" y="5213520"/>
            <a:ext cx="590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ердюк Тетяна Миколаївна,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к.т.н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 доц. каф. «Автоматика, телемеханіка та зв’язок» – лідер серед жінок університету за кількістю статей (5), індексованих в базі даних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SCOPUS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Рисунок 1" descr=""/>
          <p:cNvPicPr/>
          <p:nvPr/>
        </p:nvPicPr>
        <p:blipFill>
          <a:blip r:embed="rId2"/>
          <a:stretch/>
        </p:blipFill>
        <p:spPr>
          <a:xfrm>
            <a:off x="4510080" y="83664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291" name="TextBox 2"/>
          <p:cNvSpPr/>
          <p:nvPr/>
        </p:nvSpPr>
        <p:spPr>
          <a:xfrm>
            <a:off x="1835280" y="4941720"/>
            <a:ext cx="62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едужа Лариса Олександрівна,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к.т.н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 доц. каф. «Будівельна механіка» – лідер серед жінок університету за кількістю статей (4), індексованих в базі даних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Web of Science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оугольник 1"/>
          <p:cNvSpPr/>
          <p:nvPr/>
        </p:nvSpPr>
        <p:spPr>
          <a:xfrm>
            <a:off x="193680" y="1628640"/>
            <a:ext cx="892800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 u="sng">
                <a:solidFill>
                  <a:srgbClr val="6b9f25"/>
                </a:solidFill>
                <a:uFillTx/>
                <a:latin typeface="Arial"/>
                <a:hlinkClick r:id="rId2"/>
              </a:rPr>
              <a:t>http://uis.unesco.org/en/topic/women-scie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https://cedos.org.ua/uk/discrimination/chym-vidrizniaiutsia-zhinky-i-choloviky-pro-hendernu-ne-rivnist-u-vyshchii-osvi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https://genderindetail.org.ua/season-topic/osvita-i-prosvita/koli-choloviki-zverhu-abo-sklyana-stelya-ukrainskoi-vischoi-osviti-134076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https://fineartamerica.com/featured/astrolabe-diagram-science-source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https://periodistaenfunciones.wordpress.com/tag/hipatia-de-alejandria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https://nachasi.com/2018/02/11/women-inventors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"/>
          <p:cNvSpPr/>
          <p:nvPr/>
        </p:nvSpPr>
        <p:spPr>
          <a:xfrm>
            <a:off x="1187280" y="112536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икористана інформація з сайті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Box 1"/>
          <p:cNvSpPr/>
          <p:nvPr/>
        </p:nvSpPr>
        <p:spPr>
          <a:xfrm>
            <a:off x="2843280" y="1341360"/>
            <a:ext cx="576108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резентацію підготува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Колесникова Т. 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Шитікова Т.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Матвєєва О.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Юнаковська В.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Бондаренко О. 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2"/>
          <p:cNvSpPr/>
          <p:nvPr/>
        </p:nvSpPr>
        <p:spPr>
          <a:xfrm>
            <a:off x="2195640" y="2565360"/>
            <a:ext cx="633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008000"/>
                </a:solidFill>
                <a:latin typeface="Georgia"/>
              </a:rPr>
              <a:t>Дякуєм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008000"/>
                </a:solidFill>
                <a:latin typeface="Georgia"/>
              </a:rPr>
              <a:t>     </a:t>
            </a:r>
            <a:r>
              <a:rPr b="1" i="1" lang="uk-UA" sz="7200" spc="-1" strike="noStrike">
                <a:solidFill>
                  <a:srgbClr val="008000"/>
                </a:solidFill>
                <a:latin typeface="Georgia"/>
              </a:rPr>
              <a:t>за увагу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"/>
          <p:cNvSpPr/>
          <p:nvPr/>
        </p:nvSpPr>
        <p:spPr>
          <a:xfrm>
            <a:off x="2700360" y="5373720"/>
            <a:ext cx="41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18b71"/>
                </a:solidFill>
                <a:latin typeface="Georgia"/>
              </a:rPr>
              <a:t>Дніп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18b71"/>
                </a:solidFill>
                <a:latin typeface="Georgia"/>
              </a:rPr>
              <a:t>НТБ ДНУЗ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18b71"/>
                </a:solidFill>
                <a:latin typeface="Georgia"/>
              </a:rPr>
              <a:t>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5"/>
          <p:cNvSpPr/>
          <p:nvPr/>
        </p:nvSpPr>
        <p:spPr>
          <a:xfrm rot="19391400">
            <a:off x="-351000" y="1802880"/>
            <a:ext cx="684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318b71"/>
                </a:solidFill>
                <a:latin typeface="Ekaterina Velikaya One"/>
              </a:rPr>
              <a:t>Жінки в науці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18b71"/>
                </a:solidFill>
                <a:latin typeface="Georgia"/>
              </a:rPr>
              <a:t>в контексті світу та ДНУЗ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1"/>
          <p:cNvSpPr/>
          <p:nvPr/>
        </p:nvSpPr>
        <p:spPr>
          <a:xfrm>
            <a:off x="225360" y="189000"/>
            <a:ext cx="871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даними Інституту статистики ЮНЕС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 2016 р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світі серед науковців – жінки становлять лише біля 28%, у Східній та Центральній Європі – 39,6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раїна знаходиться у зоні гендерного парітету (45% – 55%). Жінок-науковиць в нашій країні близько 46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Рисунок 3" descr=""/>
          <p:cNvPicPr/>
          <p:nvPr/>
        </p:nvPicPr>
        <p:blipFill>
          <a:blip r:embed="rId2"/>
          <a:srcRect l="1184" t="0" r="1968" b="0"/>
          <a:stretch/>
        </p:blipFill>
        <p:spPr>
          <a:xfrm>
            <a:off x="152280" y="1897200"/>
            <a:ext cx="8856720" cy="4424400"/>
          </a:xfrm>
          <a:prstGeom prst="rect">
            <a:avLst/>
          </a:prstGeom>
          <a:ln w="0">
            <a:noFill/>
          </a:ln>
        </p:spPr>
      </p:pic>
      <p:sp>
        <p:nvSpPr>
          <p:cNvPr id="259" name="TextBox 3"/>
          <p:cNvSpPr/>
          <p:nvPr/>
        </p:nvSpPr>
        <p:spPr>
          <a:xfrm>
            <a:off x="343080" y="6524640"/>
            <a:ext cx="8594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ані з </a:t>
            </a:r>
            <a:r>
              <a:rPr b="0" lang="pl-PL" sz="1200" spc="-1" strike="noStrike" u="sng">
                <a:solidFill>
                  <a:srgbClr val="6b9f25"/>
                </a:solidFill>
                <a:uFillTx/>
                <a:latin typeface="Arial"/>
                <a:hlinkClick r:id="rId3"/>
              </a:rPr>
              <a:t>http://uis.unesco.org/en/topic/women-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Рисунок 1" descr=""/>
          <p:cNvPicPr/>
          <p:nvPr/>
        </p:nvPicPr>
        <p:blipFill>
          <a:blip r:embed="rId2"/>
          <a:stretch/>
        </p:blipFill>
        <p:spPr>
          <a:xfrm>
            <a:off x="0" y="1484280"/>
            <a:ext cx="9286920" cy="4572000"/>
          </a:xfrm>
          <a:prstGeom prst="rect">
            <a:avLst/>
          </a:prstGeom>
          <a:ln w="0">
            <a:noFill/>
          </a:ln>
        </p:spPr>
      </p:pic>
      <p:sp>
        <p:nvSpPr>
          <p:cNvPr id="261" name="TextBox 2"/>
          <p:cNvSpPr/>
          <p:nvPr/>
        </p:nvSpPr>
        <p:spPr>
          <a:xfrm>
            <a:off x="179280" y="33336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Хоча в Україні серед усіх студентів ВНЗ І-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івнів акредитації жінки становлять 52,3% (дані з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013-2014 навчальний рік), але при цьому у вишах чітко виділяються “жіночі” і “чоловічі” напрям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3"/>
          <p:cNvSpPr/>
          <p:nvPr/>
        </p:nvSpPr>
        <p:spPr>
          <a:xfrm>
            <a:off x="179280" y="6453360"/>
            <a:ext cx="8785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Дані з </a:t>
            </a:r>
            <a:r>
              <a:rPr b="0" lang="pl-PL" sz="1100" spc="-1" strike="noStrike" u="sng">
                <a:solidFill>
                  <a:srgbClr val="6b9f25"/>
                </a:solidFill>
                <a:uFillTx/>
                <a:latin typeface="Arial"/>
                <a:hlinkClick r:id="rId3"/>
              </a:rPr>
              <a:t>https://cedos.org.ua/uk/discrimination/chym-vidrizniaiutsia-zhinky-i-choloviky-pro-hendernu-ne-rivnist-u-vyshchii-osvi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Рисунок 1" descr=""/>
          <p:cNvPicPr/>
          <p:nvPr/>
        </p:nvPicPr>
        <p:blipFill>
          <a:blip r:embed="rId2"/>
          <a:stretch/>
        </p:blipFill>
        <p:spPr>
          <a:xfrm>
            <a:off x="0" y="950760"/>
            <a:ext cx="9144000" cy="495648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2" descr=""/>
          <p:cNvPicPr/>
          <p:nvPr/>
        </p:nvPicPr>
        <p:blipFill>
          <a:blip r:embed="rId3"/>
          <a:stretch/>
        </p:blipFill>
        <p:spPr>
          <a:xfrm>
            <a:off x="176040" y="6415200"/>
            <a:ext cx="8791920" cy="54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Рисунок 1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8616960" cy="487044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3" descr=""/>
          <p:cNvPicPr/>
          <p:nvPr/>
        </p:nvPicPr>
        <p:blipFill>
          <a:blip r:embed="rId3"/>
          <a:stretch/>
        </p:blipFill>
        <p:spPr>
          <a:xfrm>
            <a:off x="684360" y="6453360"/>
            <a:ext cx="8789760" cy="542880"/>
          </a:xfrm>
          <a:prstGeom prst="rect">
            <a:avLst/>
          </a:prstGeom>
          <a:ln w="0">
            <a:noFill/>
          </a:ln>
        </p:spPr>
      </p:pic>
      <p:sp>
        <p:nvSpPr>
          <p:cNvPr id="267" name="TextBox 5"/>
          <p:cNvSpPr/>
          <p:nvPr/>
        </p:nvSpPr>
        <p:spPr>
          <a:xfrm>
            <a:off x="611280" y="5291280"/>
            <a:ext cx="8064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Частка чоловіків та жінок на спеціальностях інженерного напрям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1"/>
          <p:cNvSpPr/>
          <p:nvPr/>
        </p:nvSpPr>
        <p:spPr>
          <a:xfrm>
            <a:off x="324000" y="40464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ед викладачів ВНЗ приблизно однакова кількість жінок і чоловіків, та коли мова заходить про керівні посади, число жінок різко знижується: із 1642 керівників лише 517 — жін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https://genderindetail.org.ua/netcat_files/userfiles/tsspring17/kurna/nazva_1.png"/>
          <p:cNvPicPr/>
          <p:nvPr/>
        </p:nvPicPr>
        <p:blipFill>
          <a:blip r:embed="rId2"/>
          <a:stretch/>
        </p:blipFill>
        <p:spPr>
          <a:xfrm>
            <a:off x="2050920" y="1461960"/>
            <a:ext cx="5264280" cy="33703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71280" y="6453360"/>
            <a:ext cx="9253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Дані з </a:t>
            </a:r>
            <a:r>
              <a:rPr b="0" lang="pl-PL" sz="1100" spc="-1" strike="noStrike" u="sng">
                <a:solidFill>
                  <a:srgbClr val="6b9f25"/>
                </a:solidFill>
                <a:uFillTx/>
                <a:latin typeface="Arial"/>
                <a:hlinkClick r:id="rId3"/>
              </a:rPr>
              <a:t>https://genderindetail.org.ua/season-topic/osvita-i-prosvita/koli-choloviki-zverhu-abo-sklyana-stelya-ukrainskoi-vischoi-osviti-134076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3"/>
          <p:cNvSpPr/>
          <p:nvPr/>
        </p:nvSpPr>
        <p:spPr>
          <a:xfrm>
            <a:off x="324000" y="4903920"/>
            <a:ext cx="856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віть серед керівниць посади розподіляються виразно нерівномірно. Абсолютна більшість керівниць обіймає посади директорок або деканок, тоді як ректорок в Україні лише 53. Найчастіше жінки очолюють ВНЗ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–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івня акредитації, тобто ліцеї й коледжі, особливо педагогічного та гуманітарного профілів навчанн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Рисунок 2" descr=""/>
          <p:cNvPicPr/>
          <p:nvPr/>
        </p:nvPicPr>
        <p:blipFill>
          <a:blip r:embed="rId2"/>
          <a:stretch/>
        </p:blipFill>
        <p:spPr>
          <a:xfrm>
            <a:off x="93600" y="1268280"/>
            <a:ext cx="8953560" cy="4821480"/>
          </a:xfrm>
          <a:prstGeom prst="rect">
            <a:avLst/>
          </a:prstGeom>
          <a:ln w="0">
            <a:noFill/>
          </a:ln>
        </p:spPr>
      </p:pic>
      <p:sp>
        <p:nvSpPr>
          <p:cNvPr id="273" name="TextBox 3"/>
          <p:cNvSpPr/>
          <p:nvPr/>
        </p:nvSpPr>
        <p:spPr>
          <a:xfrm>
            <a:off x="971640" y="476280"/>
            <a:ext cx="691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блікаційна активність науковців ДНУЗ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 2015 – 2017 р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4"/>
          <p:cNvSpPr/>
          <p:nvPr/>
        </p:nvSpPr>
        <p:spPr>
          <a:xfrm>
            <a:off x="1692360" y="530064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9,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5"/>
          <p:cNvSpPr/>
          <p:nvPr/>
        </p:nvSpPr>
        <p:spPr>
          <a:xfrm>
            <a:off x="2627280" y="51894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60,4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6"/>
          <p:cNvSpPr/>
          <p:nvPr/>
        </p:nvSpPr>
        <p:spPr>
          <a:xfrm>
            <a:off x="5076720" y="472428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9,8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7"/>
          <p:cNvSpPr/>
          <p:nvPr/>
        </p:nvSpPr>
        <p:spPr>
          <a:xfrm>
            <a:off x="6012000" y="29973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70,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Box 1"/>
          <p:cNvSpPr/>
          <p:nvPr/>
        </p:nvSpPr>
        <p:spPr>
          <a:xfrm>
            <a:off x="826920" y="333360"/>
            <a:ext cx="74901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ублікаційна активність жінок-науковців у 2015 – 2017 рр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 - 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332000" y="1197000"/>
          <a:ext cx="6192720" cy="5327640"/>
        </p:xfrm>
        <a:graphic>
          <a:graphicData uri="http://schemas.openxmlformats.org/drawingml/2006/table">
            <a:tbl>
              <a:tblPr/>
              <a:tblGrid>
                <a:gridCol w="4680000"/>
                <a:gridCol w="1512720"/>
              </a:tblGrid>
              <a:tr h="355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ценюк Лариса Володимир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3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стеренко Галина Івані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5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рдюк Тетяна Миколаї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5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раменко (Музикіна) Світлана Ігорі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5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еленько Юлія Володимирі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4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уравель Ірина Леоніді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5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ришкіна Лариса Олександрі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5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мелевська Неля  Петр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5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аркіна Тетяна Юрії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3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дужа Лариса Олександр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5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кашидзе Ірина Сергії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5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ласова Тетяна Івані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5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вець Анжела Олександрі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3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есникова Тетяна Олександр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5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суляк Людмила В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тор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Пользователь</cp:lastModifiedBy>
  <dcterms:modified xsi:type="dcterms:W3CDTF">2018-03-05T12:02:19Z</dcterms:modified>
  <cp:revision>184</cp:revision>
  <dc:subject/>
  <dc:title>Слайд 1</dc:title>
</cp:coreProperties>
</file>